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B27-1F6D-4851-9DD5-563CC8C6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C4A7-31DA-4582-A28B-4568CBE9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E789-112D-4144-A297-C9563337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73D0-9770-48F3-A1C8-67748FD1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49B5-00AE-41E2-B7C5-E4843A74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59FF-3A55-4B30-A693-095675AA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0684-387E-4C45-91FD-9D549E8F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A132-DC0B-44B5-9071-7F9C286E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D226-E930-4FE2-9112-67B6CE8E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4C22-DBF1-47FF-9DA5-01DB518E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569C-3A75-4299-81C6-85360521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12C5-9BA9-4855-BE81-9130A019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AB90-9FDD-45F1-B993-3E65FDAC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617E-EDB3-4272-86CE-6843B239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1C40-471A-4745-A489-569C632B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935D-F439-4C67-BB39-1294DFC6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033E-D9B3-4B26-8995-ECC88184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07A6-5038-4EDA-AE6C-FC8661B1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BFBE-E0A2-43C6-98D6-CF870A59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67C4-17C9-4211-BE37-2F0EF63A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FC66-728B-487A-9F53-0AB5338C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7489-7D3A-4777-80D8-97710A17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142-E070-46F3-B8C5-EA021B97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D913-5774-4680-BAE7-4186CF8A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5053-5D29-4AD9-A015-786BD772BAB8}" type="slidenum">
              <a:rPr b="0" lang="zh-TW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BF99-DA69-43F5-9D41-1FF95F03AC44}" type="slidenum">
              <a:rPr b="0" lang="zh-TW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64216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006666"/>
                </a:solidFill>
                <a:latin typeface="標楷體"/>
                <a:ea typeface="標楷體"/>
              </a:rPr>
              <a:t>預防保健</a:t>
            </a:r>
            <a:endParaRPr b="1" lang="en-US" sz="9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-181440" y="2997360"/>
            <a:ext cx="9325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99"/>
                </a:solidFill>
                <a:latin typeface="標楷體"/>
                <a:ea typeface="標楷體"/>
              </a:rPr>
              <a:t>第</a:t>
            </a:r>
            <a:r>
              <a:rPr b="1" lang="zh-TW" sz="4000" spc="-1" strike="noStrike">
                <a:solidFill>
                  <a:srgbClr val="006699"/>
                </a:solidFill>
                <a:latin typeface="標楷體"/>
                <a:ea typeface="標楷體"/>
              </a:rPr>
              <a:t>13</a:t>
            </a:r>
            <a:r>
              <a:rPr b="1" lang="zh-TW" sz="4000" spc="-1" strike="noStrike">
                <a:solidFill>
                  <a:srgbClr val="006699"/>
                </a:solidFill>
                <a:latin typeface="標楷體"/>
                <a:ea typeface="標楷體"/>
              </a:rPr>
              <a:t>章 中年人的預防保健與健康檢查</a:t>
            </a:r>
            <a:endParaRPr b="1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916360" y="5229360"/>
            <a:ext cx="363204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  <a:ea typeface="標楷體"/>
              </a:rPr>
              <a:t>張朝凱 老師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47280" y="1700280"/>
            <a:ext cx="692316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6699"/>
                </a:solidFill>
                <a:latin typeface="Verdana"/>
              </a:rPr>
              <a:t>Thank You!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6699"/>
                </a:solidFill>
                <a:latin typeface="Verdana"/>
              </a:rPr>
              <a:t>謝謝大家</a:t>
            </a:r>
            <a:r>
              <a:rPr b="1" lang="zh-TW" sz="6000" spc="-1" strike="noStrike">
                <a:solidFill>
                  <a:srgbClr val="006699"/>
                </a:solidFill>
                <a:latin typeface="Verdana"/>
              </a:rPr>
              <a:t>!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596360" y="4005360"/>
            <a:ext cx="952200" cy="819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859280" y="4941720"/>
            <a:ext cx="952560" cy="819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4211640" y="333360"/>
            <a:ext cx="952560" cy="819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7236000" y="765000"/>
            <a:ext cx="952200" cy="819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1835280" y="4508640"/>
            <a:ext cx="952200" cy="819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1332000" y="1268280"/>
            <a:ext cx="952560" cy="819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3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中年人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 眼睛、耳朵的老化和更年期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0920" y="981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一、眼睛老化與保健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一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眼睛的保健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1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避免直視陽光，注意防曬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1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淺灰色鏡片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2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淺綠色鏡片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3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淺褐色鏡片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4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不適宜的鏡片的顏色：藍色鏡片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!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2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葉黃素、玉米黃素、蕃茄紅素、花青素、深海魚油可保護眼睛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3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不吸菸或避開二手菸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二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老花眼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二、耳朵老化與保健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6165720"/>
            <a:ext cx="309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359~P.361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6354720"/>
            <a:ext cx="28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1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3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中年人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 眼睛、耳朵的老化和更年期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50920" y="981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三、更年期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一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女性、男性的更年期及保健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1.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女性更年期的開始和結束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2.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更年期所面臨的身心變化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3.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保健方法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女性：「植物雄激素」主要有「大豆異黃酮」和「木脂素」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2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種類型。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男性：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(1)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運動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(2)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健康飲食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(3)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戒菸、減少飲酒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(4)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做好壓力調節。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6046920" y="6354720"/>
            <a:ext cx="30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361~P.362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6354720"/>
            <a:ext cx="28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2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3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中年人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2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 骨質密度和骨質保全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4360" y="1052640"/>
            <a:ext cx="8137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一、骨質密度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一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骨質變化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/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骨質疏鬆高危險群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    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表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13-1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「骨質疏鬆」高危險群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P.363)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二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骨質密度的檢測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1.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單光子骨密度測定法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2.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雙光子骨密度測定法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3.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雙能量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X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光骨密度測定法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簡稱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DEXA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或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DXA)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4.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超音波骨密度檢查法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5.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定量式電腦斷層掃描檢查法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6.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骨質流失速率的檢驗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三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骨質密度檢查結果—世界衛生組織分類法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    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表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13-2(P.366)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6046920" y="6354720"/>
            <a:ext cx="30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363~P.366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6354720"/>
            <a:ext cx="28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3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3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中年人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2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 骨質密度和骨質保全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258920" y="1125000"/>
            <a:ext cx="7200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一、骨質密度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四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骨質保全的方法和觀念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1.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增加鈣的吸收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1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適量食用含鈣豐富的食物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2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「乳糖」有助鈣吸收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3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適量食用含鎂的食物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4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柳橙汁有助鈣片吸收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5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香菇曬太陽，有助鈣吸收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6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適量蛋白質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勿過量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，有助鈣吸收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7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運動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8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適量照射太陽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6046920" y="6354720"/>
            <a:ext cx="30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366~P.368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6354720"/>
            <a:ext cx="28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4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3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中年人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2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 骨質密度和骨質保全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79280" y="112500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一、骨質密度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四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骨質保全的方法和觀念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2.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減少鈣的流失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1)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牛奶和鈣片不要和含草酸、植物、高纖維的食物一同食用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2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勿攝取含過量食鹽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納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的食物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3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勿食用高磷食品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4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不要吃多肉，蛋白質勿攝取過量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5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菸、酒應避免過量攝入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6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攝取鈣質過少者，適量咖啡攝入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3.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其他：如「維骨力」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6046920" y="6354720"/>
            <a:ext cx="30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366~P.368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6354720"/>
            <a:ext cx="28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4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3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中年人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3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 腸道、乳房和攝護腺的篩檢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58560" y="1412640"/>
            <a:ext cx="6697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一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大腸直腸癌的篩檢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1.50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歲以上一般民眾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1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糞便潛血檢驗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2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乙狀結腸鏡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   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以軟式為例，圖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13-2,P.369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2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大腸直腸癌高危險群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表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4-1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，圖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13-3,P.370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46920" y="6165720"/>
            <a:ext cx="30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368~P.370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6093000"/>
            <a:ext cx="2881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5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3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中年人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3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 腸道、乳房和攝護腺的篩檢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755280" y="1196640"/>
            <a:ext cx="8064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二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乳癌篩檢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1.40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歲以下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「乳房超音波」檢查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圖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13-4-A,P.371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2.40~49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歲婦女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「乳癌高危險群」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表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13-3,P.372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1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乳房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X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光攝影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圖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13-4-B,P.371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2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乳房超音波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圖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13-4-A,P.371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3.50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歲以上婦女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6046920" y="6165720"/>
            <a:ext cx="30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370~P.372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6093000"/>
            <a:ext cx="2881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6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3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中年人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3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 腸道、乳房和攝護腺的篩檢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250920" y="1125360"/>
            <a:ext cx="8748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三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攝護腺癌的篩檢和保健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1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肛門指診—觸診攝護腺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圖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13-5,P.372)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2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攝護腺特異抗原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PSA)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~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值「大於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4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毫微克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/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毫升」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3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攝護腺的保健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1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避免憋尿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2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避免抽煙、喝酒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3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提高攝護腺細胞中的「鋅」濃度，可預防攝護腺癌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6046920" y="6165720"/>
            <a:ext cx="30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372~P.373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6093000"/>
            <a:ext cx="2881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7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1:19:25Z</dcterms:created>
  <dc:creator>SuperXP</dc:creator>
  <dc:description/>
  <dc:language>en-US</dc:language>
  <cp:lastModifiedBy>SuperXP</cp:lastModifiedBy>
  <dcterms:modified xsi:type="dcterms:W3CDTF">2007-06-06T03:45:02Z</dcterms:modified>
  <cp:revision>680</cp:revision>
  <dc:subject/>
  <dc:title>投影片 1</dc:title>
</cp:coreProperties>
</file>