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2B6-1B31-4DE3-98F6-2347ECC9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E89-592C-424E-B360-DAC21B0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285-BE6B-43B5-ACD7-C8AB4D5D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0C9-6A43-4ECE-B23E-0049054F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886-09E6-450C-ADFE-9BF16183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EB0B-B7DA-4F96-AA59-45BBBDB2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FD16-023F-4011-93C2-26932E62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EFF-9331-477B-927B-B72CF65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841-D8D4-4CB8-B639-021FB02D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3F36-520D-4C67-9A7A-287ED66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240-A5F5-4F9A-8002-8010D46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C0F-CE55-4B50-8DFB-B4C6181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9DC9-0E02-4A10-A36A-84067C0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3C0C-8CBE-483D-930F-096359B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168-5DEB-4BA8-84F7-A0033D3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8C6-85D7-46DD-B36D-ABE7552A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9DF6-1F51-4C4D-B2BB-A80B76D9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5FC-D367-4EF6-9363-68A690B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14B-FBC2-4A81-B2C9-11D7460E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EE4-C051-40BE-BD7F-E0B5738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0F4-BEB6-4D6C-869A-B23FCF22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CC7-8F2C-41B7-9EE0-5EB1AD8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EDF-5DA0-4A13-AB69-05BFD5E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BAF-EF03-4785-BAC9-4A9C123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9E0E-43A9-4AF0-821C-E27F14A844E4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D22C-FE2F-447B-9000-F67D34A91D4D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2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6666"/>
                </a:solidFill>
                <a:latin typeface="標楷體"/>
                <a:ea typeface="標楷體"/>
              </a:rPr>
              <a:t>預防保健</a:t>
            </a:r>
            <a:endParaRPr b="1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2997360"/>
            <a:ext cx="9325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第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12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章 成年人的預防保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006699"/>
                </a:solidFill>
                <a:latin typeface="標楷體"/>
                <a:ea typeface="標楷體"/>
              </a:rPr>
              <a:t>與健康檢查</a:t>
            </a: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229360"/>
            <a:ext cx="36320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張朝凱 老師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62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B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型肝炎疫苗—接種背景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B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型肝炎表面抗原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肝功能檢查的代表意義。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「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B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型肝炎健康帶原者」和「慢性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B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型肝炎患者」之比較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表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2-5,P.344)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日常生活注意事項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165720"/>
            <a:ext cx="284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3~P.34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節  「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B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型肝炎健康帶原者」和「慢性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B</a:t>
            </a:r>
            <a:r>
              <a:rPr b="1" lang="zh-TW" sz="2800" spc="-1" strike="noStrike">
                <a:solidFill>
                  <a:srgbClr val="006666"/>
                </a:solidFill>
                <a:latin typeface="標楷體"/>
                <a:ea typeface="標楷體"/>
              </a:rPr>
              <a:t>型肝炎患者」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自我檢查乳房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國民健康局所推動的「乳房健康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部曲」，是指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自我檢查乳房、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35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歲以上每年接受專科醫師檢查、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.50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歲以上每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~3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年接受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次乳房攝影檢查」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6165720"/>
            <a:ext cx="22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6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6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自我檢查乳房和子宮頸抹片檢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自我檢查乳房」以下是檢查原則：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月經結束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週內自我檢查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觀察乳房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站著觸摸乳房、乳頭、淋巴結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躺著觸摸乳房、乳頭、淋巴結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觸摸範圍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容易發生乳癌部位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停經婦女的檢查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7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男性的檢查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6165720"/>
            <a:ext cx="284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6~P.34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7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自我檢查乳房和子宮頸抹片檢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755640" y="177336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子宮頸抹片檢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檢察過程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抹片結果分類系統—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8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個號碼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表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2-6,P349)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篩檢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HPV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人類乳突病毒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」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6165720"/>
            <a:ext cx="29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8~P.350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8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自我檢查乳房和子宮頸抹片檢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1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口腔癌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癌前病變和口腔癌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白斑  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紅斑  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紅白斑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口腔黏膜下纖維化 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口腔癌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篩檢方式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目視檢查     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觸診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6165720"/>
            <a:ext cx="29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50~P.35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9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口腔癌篩檢和健康食品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健康食品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定義及標章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保健功效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調節血脂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免疫調節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改善腸胃功能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改善骨質疏鬆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牙齒保健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調節血糖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7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護肝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8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抗疲勞 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9.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延緩衰老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三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正確用法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6165720"/>
            <a:ext cx="29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51~P.353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165720"/>
            <a:ext cx="32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0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口腔癌篩檢和健康食品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47280" y="1700280"/>
            <a:ext cx="6923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Thank You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謝謝大家</a:t>
            </a:r>
            <a:r>
              <a:rPr b="1" lang="zh-TW" sz="60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59280" y="4941720"/>
            <a:ext cx="952560" cy="81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952200" cy="81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835280" y="450864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332000" y="126828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常見成人癌症的預防、警訊和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8920" y="1125360"/>
            <a:ext cx="680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、癌症的預防之道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.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少吃鹹，熱食要凉了再吃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2.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避免發霉、人工添加物食物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3.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天然維生素和纖維質正確攝取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4.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燒焦食物勿吃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戒菸並拒吸二手菸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少吃脂肪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7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攝取均衡營養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8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每天要吃多樣食物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9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飲酒適量，不嚼檳榔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0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注意身體清潔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環境衛生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1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避免勞累，保持心情愉快，適度運動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2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勿過度曝曬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3.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勿接觸或暴露在致癌物質中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264360" y="63547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33~P.335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99640" y="1197000"/>
            <a:ext cx="7201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癌症的警訊和篩檢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癌症早期偵測大多是「仰賴自己」，自己的警覺也是一項利器，如果有了一些癌症知識，可因早期發現、早期治療而得到良好的治癒率，例如：早期子宮頸癌、乳癌、鼻咽癌、喉癌等，都有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95%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的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年存活率。 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2-1(P.336)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三、癌症腫瘤標記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61657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35~P.337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常見成人癌症的預防、警訊和篩檢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63640" y="1197000"/>
            <a:ext cx="64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血脂檢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項目和正常值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總膽固醇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高密度脂蛋白膽固醇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低密度脂蛋白膽固醇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三酸甘油脂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又稱中性脂肪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12-2(P.338)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61657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37~P.338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6165720"/>
            <a:ext cx="28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2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99640" y="1267920"/>
            <a:ext cx="8029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一、血脂檢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「血脂異常」的高危險群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有「高血脂、高血糖、高血壓」家族史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肉食主義者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肥胖者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不愛運動者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老菸槍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銀髮族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587700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38~P.339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8750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一、血脂檢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預防「血脂異常」的飲食原則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購買時注意食品營養標示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慎選油脂來源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少吃「反式脂肪酸」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少吃「飽和油脂」</a:t>
            </a:r>
            <a:r>
              <a:rPr b="1" lang="zh-TW" sz="1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1800" spc="-1" strike="noStrike">
                <a:solidFill>
                  <a:srgbClr val="006699"/>
                </a:solidFill>
                <a:latin typeface="標楷體"/>
                <a:ea typeface="標楷體"/>
              </a:rPr>
              <a:t>12-3,P.340)(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3)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以「單元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多元不飽和脂肪酸」取代「飽和脂肪酸」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表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12-3)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吃全穀類，少吃精緻穀類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食用適量纖維質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/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水溶性纖維的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高膽固醇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會升高「中性脂肪」的食物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6165720"/>
            <a:ext cx="29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39~P.34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6354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50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腎臟保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護腎檢查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制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若屬表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2-4(P.341)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所列「腎臟病高危險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群」，應注意定期檢查腎功能，也就是「護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腎檢查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制」。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護腎檢查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制」是指「每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個月檢查『尿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液』、『血壓』、『血清肌酸酐』等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項」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6165720"/>
            <a:ext cx="19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1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6093000"/>
            <a:ext cx="288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47280" y="907920"/>
            <a:ext cx="849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二、腎臟保健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維護腎功能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--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「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沒有」和「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」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一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4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不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抽菸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用偏方、草藥、黑藥丸或坊間各種所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「護腎」產品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用非醫師處方之止痛藥、抗生素、減肥藥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不憋尿並適當喝水：因為尿在膀胱裡太久，易繁殖細菌，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細菌可能經輸尿管感染到腎臟；每天適量喝水，腎臟亦不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易結石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二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1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沒有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是指「沒有鮪魚肚」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意即保持理想體重和適量運動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7164360" y="635472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354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7280" y="907920"/>
            <a:ext cx="849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標楷體"/>
                <a:ea typeface="標楷體"/>
              </a:rPr>
              <a:t>二、腎臟保健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維護腎功能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--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不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沒有」和「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控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」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三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5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控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制血糖。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制血壓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制血脂肪。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4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制尿蛋白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5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控制尿酸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四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)3</a:t>
            </a:r>
            <a:r>
              <a:rPr b="1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避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過度疲累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感冒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避免接受會傷害腎臟的檢查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例如：顯影劑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             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和藥物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例如：止痛藥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6699"/>
                </a:solidFill>
                <a:latin typeface="標楷體"/>
                <a:ea typeface="標楷體"/>
              </a:rPr>
              <a:t>。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635472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&lt;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課本</a:t>
            </a:r>
            <a:r>
              <a:rPr b="1" lang="zh-TW" sz="2400" spc="-1" strike="noStrike">
                <a:solidFill>
                  <a:srgbClr val="003300"/>
                </a:solidFill>
                <a:latin typeface="標楷體"/>
                <a:ea typeface="標楷體"/>
              </a:rPr>
              <a:t>P.342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35472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課本自我評量第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4</a:t>
            </a:r>
            <a:r>
              <a:rPr b="1" lang="zh-TW" sz="2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1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章 成年人的預防保健與健康檢查</a:t>
            </a:r>
            <a:br>
              <a:rPr sz="3200"/>
            </a:b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第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6666"/>
                </a:solidFill>
                <a:latin typeface="標楷體"/>
                <a:ea typeface="標楷體"/>
              </a:rPr>
              <a:t>節  血脂檢查和腎臟保健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1:19:25Z</dcterms:created>
  <dc:creator>SuperXP</dc:creator>
  <dc:description/>
  <dc:language>en-US</dc:language>
  <cp:lastModifiedBy>流浪藝術家</cp:lastModifiedBy>
  <dcterms:modified xsi:type="dcterms:W3CDTF">2007-06-04T12:59:17Z</dcterms:modified>
  <cp:revision>671</cp:revision>
  <dc:subject/>
  <dc:title>投影片 1</dc:title>
</cp:coreProperties>
</file>