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8E0-56A4-4CEF-9139-A85EB661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868-4F1F-4844-94AB-A93FF194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0E0-4C1F-4413-B626-6AE59737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453-0F8C-4CDE-87B3-38726BD9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8455-AB8D-4792-A214-7DE35BF8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CC0B-D645-4920-A97C-1C6EA0F0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5998-C271-4228-903B-101166C4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4604-9366-47D1-91C5-ED73298C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EBF2-BD2E-4EA4-BE92-D37FF3C3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FCE3-CF95-4035-A797-F6E07C72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8F7E-4654-4220-82E7-3C1702D9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A7D-7ACD-4A28-849B-CB29D030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B4FC-3591-4BB3-BA7B-694C8B7F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D656-9E30-4A34-A0DC-1AE01203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7A7F-90F3-4738-95AA-58965618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25BF-2775-4A2C-8AEE-0FFC1EF4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9E84-3568-4806-883E-DDF79A9A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016-0FDD-4547-893E-793C1339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A0F-B286-4060-B892-CF0E93DB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D6C-BAE0-4E02-8736-4794DF72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0C2-B774-4D90-99E5-1864D6DC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771-C6B9-4954-9848-65D17BD8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5CA-21FF-4B88-B190-8E84EBA6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DBE-2B56-4E20-86D7-213E908E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58C9-09B0-40E7-AD14-69B54FFFD45E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1917-3A8E-4224-9646-87B59D22417A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64216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006666"/>
                </a:solidFill>
                <a:latin typeface="標楷體"/>
                <a:ea typeface="標楷體"/>
              </a:rPr>
              <a:t>預防保健</a:t>
            </a:r>
            <a:endParaRPr b="1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181440" y="2997360"/>
            <a:ext cx="932508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99"/>
                </a:solidFill>
                <a:latin typeface="標楷體"/>
                <a:ea typeface="標楷體"/>
              </a:rPr>
              <a:t>第</a:t>
            </a:r>
            <a:r>
              <a:rPr b="1" lang="zh-TW" sz="4800" spc="-1" strike="noStrike">
                <a:solidFill>
                  <a:srgbClr val="006699"/>
                </a:solidFill>
                <a:latin typeface="標楷體"/>
                <a:ea typeface="標楷體"/>
              </a:rPr>
              <a:t>11</a:t>
            </a:r>
            <a:r>
              <a:rPr b="1" lang="zh-TW" sz="4800" spc="-1" strike="noStrike">
                <a:solidFill>
                  <a:srgbClr val="006699"/>
                </a:solidFill>
                <a:latin typeface="標楷體"/>
                <a:ea typeface="標楷體"/>
              </a:rPr>
              <a:t>章 青少年的預防保健</a:t>
            </a:r>
            <a:endParaRPr b="1" lang="en-US" sz="4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99"/>
                </a:solidFill>
                <a:latin typeface="標楷體"/>
                <a:ea typeface="標楷體"/>
              </a:rPr>
              <a:t>  </a:t>
            </a:r>
            <a:r>
              <a:rPr b="1" lang="zh-TW" sz="4800" spc="-1" strike="noStrike">
                <a:solidFill>
                  <a:srgbClr val="006699"/>
                </a:solidFill>
                <a:latin typeface="標楷體"/>
                <a:ea typeface="標楷體"/>
              </a:rPr>
              <a:t>與健康檢查</a:t>
            </a:r>
            <a:endParaRPr b="1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5229360"/>
            <a:ext cx="36320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張朝凱 老師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1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青少年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5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青少年生育保健親善門診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79280" y="1773000"/>
            <a:ext cx="8964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一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國外推動情形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二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國內推動情形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「青少年生育保健親善門診」服務內容如下：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諮詢       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治療範圍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緊急避孕   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4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終止懷孕的溝通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6156360" y="6165720"/>
            <a:ext cx="29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27~P.328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616572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7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547280" y="1700280"/>
            <a:ext cx="6923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6699"/>
                </a:solidFill>
                <a:latin typeface="Verdana"/>
              </a:rPr>
              <a:t>Thank You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6699"/>
                </a:solidFill>
                <a:latin typeface="Verdana"/>
              </a:rPr>
              <a:t>謝謝大家</a:t>
            </a:r>
            <a:r>
              <a:rPr b="1" lang="zh-TW" sz="6000" spc="-1" strike="noStrike">
                <a:solidFill>
                  <a:srgbClr val="006699"/>
                </a:solidFill>
                <a:latin typeface="Verdana"/>
              </a:rPr>
              <a:t>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596360" y="4005360"/>
            <a:ext cx="952200" cy="819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859280" y="4941720"/>
            <a:ext cx="952560" cy="819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211640" y="333360"/>
            <a:ext cx="952560" cy="819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7236000" y="765000"/>
            <a:ext cx="952200" cy="81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1835280" y="4508640"/>
            <a:ext cx="952200" cy="819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332000" y="1268280"/>
            <a:ext cx="952560" cy="819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1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青少年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發展問題和會談內容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19280" y="126792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一、發展問題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學校生活：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課業壓力與環境適應問題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家庭生活：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親子間溝通和互動問題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人際交友：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社交技巧的發展及與同儕相處問題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4.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異性交往：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異性交往與相處，以及身體外觀的問題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5.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未來前途：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擔憂自己未來該何去何從，是要升學呢？還是要就業呢？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659640" y="6165720"/>
            <a:ext cx="19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15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616572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1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1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青少年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發展問題和會談內容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979280" y="1197000"/>
            <a:ext cx="5148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二、會談內容和技巧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安全狀況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學校或工作狀況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生長發育情形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4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家庭狀況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5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物質或藥物濫用情形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6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心理健康評估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表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11-1(P.317)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5940360" y="61657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15~P.317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616572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1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1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青少年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『健康促進學校』的實例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99640" y="112500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「經國管理暨健康學院」對執行「健康促進學校」計畫成果摘要，依「健康促進學校」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6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大範疇整理，分述如下：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一、學校衛生政策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二、學校物質環境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三、學校社會環境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四、社區關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五、個人健康技能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六、健康服務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61657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18~P.321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616572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2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1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青少年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眼睛和聽力的保健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31640" y="1267920"/>
            <a:ext cx="687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一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眼睛保健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- -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隱形眼鏡族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隱形眼鏡的注意事項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(1)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不用自來水清洗隱形眼鏡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(2)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不配戴隱形眼鏡過夜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(3)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不在眼睛不適時配戴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(4)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不配戴隱形眼鏡游泳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(5)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不用舌頭或唾液清潔隱形眼鏡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(6)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配戴前不要用含有乳雙的香皂洗手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(7)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不隨意使用他人的隱形眼鏡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(8)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使用眼藥水時，要先取下隱形眼鏡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(9)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配戴隱形眼鏡發生問題時，勿忌諱求醫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61657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21~P.322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616572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3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1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青少年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眼睛和聽力的保健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00000" y="1844640"/>
            <a:ext cx="7848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一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眼睛保健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- -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隱形眼鏡族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角膜變色片的注意事項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1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夜間駕車時不適合使用，以免影響行車安全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2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不宜長期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/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長時間配戴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3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用原廠推薦的品牌來清洗保養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6227640" y="6093000"/>
            <a:ext cx="216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22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602136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3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1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青少年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眼睛和聽力的保健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4247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二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聽力和預防噪音傷害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噪音對聽力的傷害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預防原則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1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避免去高噪音場所，遠離發生鉅大聲響的機器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2)MP3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、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iPod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最好限制在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85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分貝以下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3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減少暴露在噪音中的時間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4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使用保護聽力的設備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5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壓「耳屏」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圖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11-1,P.324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堵住外耳道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6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耳朵不適，應盡快就醫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156360" y="6165720"/>
            <a:ext cx="29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22~P.324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616572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4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1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青少年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4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牙周病和防制藥物濫用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4247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一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牙周病的篩檢和潔牙的方式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發生率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/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症狀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篩檢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注意事項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1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正確刷牙時間。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2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正確潔牙方法。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3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牙膏不必有特殊選擇。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4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每半年應該找牙醫師檢查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1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次。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6156360" y="6165720"/>
            <a:ext cx="29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24~P.325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616572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5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1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青少年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4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牙周病和防制藥物濫用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042920" y="1773000"/>
            <a:ext cx="741672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二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防制藥物濫用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第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1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類：尚未有危險因子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第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2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類：高危險群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第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3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類：已經濫用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    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表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11-2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防制藥物濫用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P.326)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6156360" y="6165720"/>
            <a:ext cx="29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25~P.326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6093000"/>
            <a:ext cx="2881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6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1:19:25Z</dcterms:created>
  <dc:creator>SuperXP</dc:creator>
  <dc:description/>
  <dc:language>en-US</dc:language>
  <cp:lastModifiedBy>L</cp:lastModifiedBy>
  <dcterms:modified xsi:type="dcterms:W3CDTF">2007-05-13T14:20:18Z</dcterms:modified>
  <cp:revision>654</cp:revision>
  <dc:subject/>
  <dc:title>投影片 1</dc:title>
</cp:coreProperties>
</file>