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8C7-6AC7-456B-84BB-9F6A7153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758-7E5B-4285-9F71-B23663E1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606-E8D9-4298-BC55-53A7B4B9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726-6AA5-4412-8C89-0CF1FE4D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10B-F625-4EB3-8F14-437D4D0F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30CF-FB81-4542-AEEF-669102FA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FA33-4119-44FF-A07E-67AFC94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9E2F-EBAF-4FBF-BDAF-24DC7FA8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9DA1-C8F0-4714-8B23-A8611501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105840"/>
            <a:ext cx="80010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EA7B-5525-499B-98DC-7967EDD0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E60F-FE78-4F40-B284-FD49D3AA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1B0-E837-41D1-83C5-05871881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FFA8-416B-46BF-B9F5-122A1DB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4851-9E0F-4436-B346-B77CE6B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154D-68F0-4C54-957F-D4B75F9A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0D87-E0D8-451A-9E8D-EA67CFA9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5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39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9A68-9A0B-4BF0-BF91-06AAA207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72E-8E43-4225-AFF1-3A47F909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3F6-C92F-4591-8005-1C3062C5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24B-0EF6-4496-BDA1-25E99443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05840"/>
            <a:ext cx="80010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575-58F2-4106-A3FE-DBCF1BF8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2CA-486F-41B2-9DAB-872F0EA8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BBA-150C-416C-9BBA-813F6610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F4B-B86F-4DA4-B8C4-85F2D58F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3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B900-705E-4473-9E3C-9218C05FB18C}" type="slidenum">
              <a: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8313-ED87-457D-A980-C14FF8D51337}" type="slidenum">
              <a:rPr b="0" lang="zh-TW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36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e701"/>
                </a:solidFill>
                <a:latin typeface="Arial Black"/>
                <a:ea typeface="新細明體"/>
              </a:rPr>
              <a:t>第</a:t>
            </a:r>
            <a:r>
              <a:rPr b="0" lang="en-US" sz="6000" spc="-1" strike="noStrike">
                <a:solidFill>
                  <a:srgbClr val="ffe701"/>
                </a:solidFill>
                <a:latin typeface="Arial Black"/>
                <a:ea typeface="新細明體"/>
              </a:rPr>
              <a:t>10</a:t>
            </a:r>
            <a:r>
              <a:rPr b="0" lang="zh-TW" sz="6000" spc="-1" strike="noStrike">
                <a:solidFill>
                  <a:srgbClr val="ffe701"/>
                </a:solidFill>
                <a:latin typeface="Arial Black"/>
                <a:ea typeface="新細明體"/>
              </a:rPr>
              <a:t>章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920" y="3196800"/>
            <a:ext cx="756144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"/>
                <a:ea typeface="新細明體"/>
              </a:rPr>
              <a:t>學齡的預防保健與健康檢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</a:t>
            </a: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張朝凱 老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7000" y="3884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體重控制原則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55880"/>
            <a:ext cx="75675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減少坐式生活，以增加活動量。如：鼓勵學童走路上下學、費力活動每週要有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3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次，每次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30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分鐘；中等費力活動每天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30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分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正確的營養教育，教導孩子了解「均衡飲食的意義」、「簡易的食物分類、代換」，以維持生長發育所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97 298 299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4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7360" y="74880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脊柱側彎「向前彎腰測試」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2314080"/>
            <a:ext cx="7567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請小朋友背對著你，讓其兩腳與肩同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站穩，兩臂下垂合掌，身體向前彎腰至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度。正常時，脊柱兩側背部應該等高；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有脊柱側彎，兩側背部就會一高一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        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300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3884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脊柱側彎的治療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567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．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骨骼未成熟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1. 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小於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5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度，在物理治療師的協助下，進行拉筋、伸展操、運動治療來預防惡化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.  25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～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40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度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，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以脊柱矯正背架避免惡化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3. 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大於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40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度，需以手術方法矯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．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骨骼已成熟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1. 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若角度小，以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X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光攝影追蹤觀察即可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新細明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e701"/>
                </a:solidFill>
                <a:latin typeface="Arial"/>
                <a:ea typeface="新細明體"/>
              </a:rPr>
              <a:t>     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  <a:ea typeface="新細明體"/>
              </a:rPr>
              <a:t>2.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若側彎角度胸椎角度大於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55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度或腰椎大於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45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度，則需以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術矯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18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  <a:ea typeface="新細明體"/>
              </a:rPr>
              <a:t>300 301</a:t>
            </a:r>
            <a:r>
              <a:rPr b="1" lang="zh-TW" sz="18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  <a:ea typeface="新細明體"/>
              </a:rPr>
              <a:t>5</a:t>
            </a:r>
            <a:r>
              <a:rPr b="1" lang="zh-TW" sz="18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7000" y="115920"/>
            <a:ext cx="8001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預防運動傷害的注意事項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5675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兒童並不是「縮小的大人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為兒童選擇最合適的運動配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經常保養並更新運動場地、地面鋪面及運動器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注重適度的暖身和一般體能訓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參加自己喜歡的運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熟悉及遵守運動規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受傷後的處理也要小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18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  <a:ea typeface="新細明體"/>
              </a:rPr>
              <a:t>301 302</a:t>
            </a:r>
            <a:r>
              <a:rPr b="1" lang="zh-TW" sz="18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  <a:ea typeface="新細明體"/>
              </a:rPr>
              <a:t>6</a:t>
            </a:r>
            <a:r>
              <a:rPr b="1" lang="zh-TW" sz="18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7000" y="-42840"/>
            <a:ext cx="8001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生活適應力</a:t>
            </a:r>
            <a:r>
              <a:rPr b="1" lang="en-US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5</a:t>
            </a: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類指標及計分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920" y="1196640"/>
            <a:ext cx="66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701"/>
                </a:solidFill>
                <a:latin typeface="Arial"/>
                <a:ea typeface="新細明體"/>
              </a:rPr>
              <a:t>5</a:t>
            </a: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類指標分別是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   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自信心、問題解決能力、挫折容忍度、技能能 力、合作能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計分說明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e701"/>
                </a:solidFill>
                <a:latin typeface="Arial"/>
                <a:ea typeface="新細明體"/>
              </a:rPr>
              <a:t>       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總分在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101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分以上是良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    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總分在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80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～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100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分之間是中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    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總分在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79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分以下是危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303 304 305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7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7000" y="115920"/>
            <a:ext cx="8001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行為評估注意事項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26920" y="1379520"/>
            <a:ext cx="60483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1.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生理／器質性因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2.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心理／社會因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3.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生理年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4.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智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5.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行為強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6.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行為持續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7.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家庭社會背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305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8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3884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青春期女性身體變化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48000" y="1955880"/>
            <a:ext cx="57960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乳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陰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初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腋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306 307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9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96480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男性青春期身體變化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1720" y="2963520"/>
            <a:ext cx="75675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睪丸／陰囊長大→陰毛出現、陰莖長大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喉結、鬍鬚長出→腋毛長出→夢遺或遺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309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9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748800"/>
            <a:ext cx="6842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健康促進學校的定義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7360" y="25318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一所學校能持續的增強它的能力，成為一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有益於生活、學習與工作的健康場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91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1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46152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健康促進學校</a:t>
            </a:r>
            <a:r>
              <a:rPr b="1" lang="en-US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6</a:t>
            </a: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大範疇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92080" y="1955520"/>
            <a:ext cx="61275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e70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學校衛生政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e70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學校物質環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e70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學校社會環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e70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社區關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e70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個人健康技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e70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e701"/>
                </a:solidFill>
                <a:latin typeface="Arial"/>
                <a:ea typeface="新細明體"/>
              </a:rPr>
              <a:t>健康服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92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1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82188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貝氏刷牙法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68080" y="2565360"/>
            <a:ext cx="65595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刷毛與牙面約呈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45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度，可有效清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牙縫與牙齦溝，適用於換牙階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93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044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含氟漱口水的用法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22417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必須等孩子會漱口以後才能使用，以免吞入過多氟化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每次含約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10cc.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在嘴內，漱口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1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分鐘後再吐掉。過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30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分鐘之後才可以喝水或吃東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93 294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牙菌斑顯示劑的用法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368000"/>
            <a:ext cx="8001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先用「牙菌斑顯示劑」染出牙菌斑的位置，然後再刷牙，才能確定刷得乾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使用時滴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  <a:ea typeface="新細明體"/>
              </a:rPr>
              <a:t>3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～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  <a:ea typeface="新細明體"/>
              </a:rPr>
              <a:t>5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滴在棉花棒上，均勻塗在牙齒、牙齦上，或取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  <a:ea typeface="新細明體"/>
              </a:rPr>
              <a:t>4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、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  <a:ea typeface="新細明體"/>
              </a:rPr>
              <a:t>5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滴加入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  <a:ea typeface="新細明體"/>
              </a:rPr>
              <a:t>7cc.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的清水中，漱口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  <a:ea typeface="新細明體"/>
              </a:rPr>
              <a:t>10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秒後吐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若牙齒表面出現「紅色斑」，表示未刷乾淨，應再用牙刷將紅色斑清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每天使用，養成正確刷牙後，每隔幾天用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  <a:ea typeface="新細明體"/>
              </a:rPr>
              <a:t>1</a:t>
            </a:r>
            <a:r>
              <a:rPr b="1" lang="zh-TW" sz="2800" spc="-1" strike="noStrike">
                <a:solidFill>
                  <a:srgbClr val="ffe701"/>
                </a:solidFill>
                <a:latin typeface="Arial"/>
                <a:ea typeface="新細明體"/>
              </a:rPr>
              <a:t>次即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94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884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身高的一般影響因素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57520" y="1952640"/>
            <a:ext cx="5262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生長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遺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運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營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94 295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3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74880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身材矮小的原因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3280" y="2386080"/>
            <a:ext cx="74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外觀異常或軀幹四肢比例不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慢性疾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內分泌異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透那氏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生理性身材矮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96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   自我評量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3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132516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e701"/>
                </a:solidFill>
                <a:latin typeface="Arial Black"/>
                <a:ea typeface="新細明體"/>
              </a:rPr>
              <a:t>體重過重／肥胖的定義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1640" y="2997360"/>
            <a:ext cx="72802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體重過重是指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BMI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大於或等於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21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體重肥胖是指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BMI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超過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  <a:ea typeface="新細明體"/>
              </a:rPr>
              <a:t>23</a:t>
            </a:r>
            <a:r>
              <a:rPr b="1" lang="zh-TW" sz="3200" spc="-1" strike="noStrike">
                <a:solidFill>
                  <a:srgbClr val="ffe701"/>
                </a:solidFill>
                <a:latin typeface="Arial"/>
                <a:ea typeface="新細明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                                                                       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課本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  <a:ea typeface="新細明體"/>
              </a:rPr>
              <a:t>297</a:t>
            </a:r>
            <a:r>
              <a:rPr b="1" lang="zh-TW" sz="2000" spc="-1" strike="noStrike">
                <a:solidFill>
                  <a:srgbClr val="ffe701"/>
                </a:solidFill>
                <a:latin typeface="Arial"/>
                <a:ea typeface="新細明體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2:09:43Z</dcterms:created>
  <dc:creator>SuperXP</dc:creator>
  <dc:description/>
  <cp:keywords/>
  <dc:language>en-US</dc:language>
  <cp:lastModifiedBy>tony</cp:lastModifiedBy>
  <dcterms:modified xsi:type="dcterms:W3CDTF">2007-05-15T05:41:38Z</dcterms:modified>
  <cp:revision>5</cp:revision>
  <dc:subject/>
  <dc:title>第10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61028</vt:lpwstr>
  </property>
</Properties>
</file>