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A7C-F29C-4D06-9441-3C34902E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AC8-5E65-4531-B6B4-34EF2836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E22-4F74-4B6F-8A3C-84CC4FFA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CD0-AFB1-4A8C-B17B-EC2F08D7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693E-C491-4224-BAE2-D0D0B609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6B92-228E-40F6-AC15-3573CDD5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CD73-176A-4663-B90B-D3888EFB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21DA-4D75-43FC-ADC7-B29E7963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CB28-7529-44F8-B29E-065F6271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E37E-82C8-493A-A61D-4A8554F4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ECE0-0B13-4853-A0A3-0571A50B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18C-0989-4FB6-8741-ECA0C68A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4491-1EF8-4289-8C44-4F470348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0FCD-43C4-43BB-BC8E-C34E4C5F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F09F-2D21-42B5-BA91-27501A8B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AD24-C962-4B8A-92BD-5F3285D8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B30E-139E-450D-B7FB-9CF78719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075-95B2-4FBE-ADAF-7F7F7A42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F17-576B-4366-ADC6-9C3A4C06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FA9-6983-4C0F-A36D-F7AF452C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412-954F-45BD-8830-E64D6D0F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7218-7880-40F1-A6CA-1188DF9C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1294-78C7-46D6-BDCE-20305C66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872-710E-4D3F-8ECB-0C8C31CD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F861-305A-4236-B61D-CA11030DF9E1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B7B3-D0B7-40F2-A76D-57214E027232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64216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006666"/>
                </a:solidFill>
                <a:latin typeface="標楷體"/>
                <a:ea typeface="標楷體"/>
              </a:rPr>
              <a:t>預防保健</a:t>
            </a:r>
            <a:endParaRPr b="1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181440" y="2997360"/>
            <a:ext cx="932508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99"/>
                </a:solidFill>
                <a:latin typeface="標楷體"/>
                <a:ea typeface="標楷體"/>
              </a:rPr>
              <a:t>第</a:t>
            </a:r>
            <a:r>
              <a:rPr b="1" lang="zh-TW" sz="4800" spc="-1" strike="noStrike">
                <a:solidFill>
                  <a:srgbClr val="006699"/>
                </a:solidFill>
                <a:latin typeface="標楷體"/>
                <a:ea typeface="標楷體"/>
              </a:rPr>
              <a:t>9</a:t>
            </a:r>
            <a:r>
              <a:rPr b="1" lang="zh-TW" sz="4800" spc="-1" strike="noStrike">
                <a:solidFill>
                  <a:srgbClr val="006699"/>
                </a:solidFill>
                <a:latin typeface="標楷體"/>
                <a:ea typeface="標楷體"/>
              </a:rPr>
              <a:t>章 學齡前的預防保健</a:t>
            </a:r>
            <a:endParaRPr b="1" lang="en-US" sz="4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99"/>
                </a:solidFill>
                <a:latin typeface="標楷體"/>
                <a:ea typeface="標楷體"/>
              </a:rPr>
              <a:t>與健康檢查</a:t>
            </a:r>
            <a:endParaRPr b="1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5229360"/>
            <a:ext cx="36320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張朝凱 老師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9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學齡前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口腔保健和預防事故傷害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4360" y="1197000"/>
            <a:ext cx="763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二、預防事故傷害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一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「遊戲」事故傷害的預防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遊戲時的合適穿著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圖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9-5,P.279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「攀爬架」注意事項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圖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9-6,P.280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「盪鞦韆」注意事項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圖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9-7,P.281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4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「溜滑梯」注意事項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圖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9-8,P.282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5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「翹翹板」注意事項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圖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9-9,P.282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16572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6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4720" y="6093000"/>
            <a:ext cx="2916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278~P.282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9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學齡前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口腔保健和預防事故傷害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692360" y="1916280"/>
            <a:ext cx="6408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二、預防事故傷害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二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「乘車」事故傷害的預防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.1~4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歲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圖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8-7-B,P.255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.4~12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歲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圖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9-10,P.283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5661000"/>
            <a:ext cx="19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283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9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學齡前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4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身體發育和發展診察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9468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一、身體發育曲線圖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「身體發育曲線圖」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附錄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,P.262~P.265)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8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章第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7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節已介紹過「身體發育曲線圖」的記號意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義和評估結果，包括：橫軸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/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縱軸、百分比、正常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異常、遲緩、不均稱等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二、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~6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歲簡易兒童發展篩檢評估量表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表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9-2,P.285)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評估項目   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年齡組   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評估方法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6084720" y="6093000"/>
            <a:ext cx="2916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284~P.285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16572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7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47280" y="1700280"/>
            <a:ext cx="6923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6699"/>
                </a:solidFill>
                <a:latin typeface="Verdana"/>
              </a:rPr>
              <a:t>Thank You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6699"/>
                </a:solidFill>
                <a:latin typeface="Verdana"/>
              </a:rPr>
              <a:t>謝謝大家</a:t>
            </a:r>
            <a:r>
              <a:rPr b="1" lang="zh-TW" sz="6000" spc="-1" strike="noStrike">
                <a:solidFill>
                  <a:srgbClr val="006699"/>
                </a:solidFill>
                <a:latin typeface="Verdana"/>
              </a:rPr>
              <a:t>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596360" y="4005360"/>
            <a:ext cx="952200" cy="81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859280" y="4941720"/>
            <a:ext cx="952560" cy="819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211640" y="333360"/>
            <a:ext cx="952560" cy="819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7236000" y="765000"/>
            <a:ext cx="952200" cy="819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835280" y="4508640"/>
            <a:ext cx="952200" cy="819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332000" y="1268280"/>
            <a:ext cx="952560" cy="819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9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學齡前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健保服務項目和兒童癌症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9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大警癥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692000" y="1844640"/>
            <a:ext cx="6337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一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)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健保服務項目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健保局針對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2~6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歲兒童，訂定「兒童預防保健服務時程明細表」，其所提供的服務項目如表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9-1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4653000"/>
            <a:ext cx="19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271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9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學齡前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健保服務項目和兒童癌症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9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大警癥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二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)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兒童癌症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9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大警癥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3~10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歲之間，是兒童癌症常見年齡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以下是「中華民國兒童癌症基金會」所提出的兒童期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9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大癌症警癥：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肝脾腫大                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不明原因之腫塊 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瞳孔有異常反射光或白點  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4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不明原因之疼痛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5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神經方面之症狀          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6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不明原因之發燒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7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臉色蒼白                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8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紫斑或出血傾向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9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淋巴腺腫大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093000"/>
            <a:ext cx="2881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1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6093000"/>
            <a:ext cx="2844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271~P.272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9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學齡前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眼睛和聽力的保健及篩檢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71640" y="1341000"/>
            <a:ext cx="7308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一、眼睛的保健及篩檢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一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)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眼睛保健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以下是眼睛保健的方法：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降低手機螢幕、電視、電腦的負面影響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適當閱讀習慣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睡眠充足，生活作息有規律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4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安全居家環境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7093080" y="6093000"/>
            <a:ext cx="1908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273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9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學齡前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眼睛和聽力的保健及篩檢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5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一、眼睛的保健及篩檢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二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)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眼睛篩檢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-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視力檢查、亂點立體圖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兒童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3~4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歲時，就可進行第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次「視力檢查」和「亂點立體圖」檢查，篩檢結果有疑似異常也請盡快帶孩子就醫，以免耽誤視力矯正治療時機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視力檢查  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&amp;  2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亂點立體圖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圖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9-1 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「亂點立體圖」檢查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7093080" y="6093000"/>
            <a:ext cx="1908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274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6093000"/>
            <a:ext cx="2881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2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9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學齡前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眼睛和聽力的保健及篩檢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0" y="98100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二、聽力篩檢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輕度聽障兒童可能有的行為表現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臺灣目前幼童聽障之發現，很多是由家長觀察到言語遲緩才求診。另外，因為「重度聽障」幼童，其聽力障礙影響語言遲緩十分明顯，在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3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歲前大多已被確立診斷。唯「輕度及一些中度聽障」幼童因為症狀不明顯，故常為家長及師長所忽略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學齡前兒童有中耳炎或輕度聽力障礙的比例甚高，小孩的輕度聽障已在其學習、語言及閱讀能力造成影響，因其要比較用心聽別人講話，而容易感到疲倦，智能等各項發展也較遲緩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7093080" y="6093000"/>
            <a:ext cx="1908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275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16572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3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9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學齡前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眼睛和聽力的保健及篩檢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68000" y="981000"/>
            <a:ext cx="81723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二、聽力篩檢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學前幼童聽力篩檢流程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- -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以台北市為例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台北市政府衛生局自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2003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年起，開始推動「學前兒童聽力篩檢服務計畫」，每年篩檢工作皆由受過訓練的「各區健康服務中心」護理人員或訪員進行，針對「滿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3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歲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~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未滿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4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歲」幼稚園、托兒所兒童，進行「純音聽力篩檢」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圖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9-2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對未通過「純音聽力篩檢」的兒童，檢查人員會協助將兒童轉介至各醫療機構接受複查，複查項目包括：聽力檢查和「鼓室圖」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圖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9-3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，以確定兒童聽力狀況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6093000"/>
            <a:ext cx="2916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275~P.276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16572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4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9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學齡前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眼睛和聽力的保健及篩檢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44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二、聽力篩檢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學前幼童聽力篩檢流程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- -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以台北市為例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本檢查之複查項目包括：聽力檢查和「各頻率刺激純音」的「聽力閾值」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閾值是指耳朵所能聽到的最小音量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；這種方法必須靠檢查者耐心觀察兒童反應，有時必須重複多次，才能得到較為可靠的聽力圖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16572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4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84720" y="6093000"/>
            <a:ext cx="2916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275~P.276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9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學齡前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口腔保健和預防事故傷害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050920" y="1197000"/>
            <a:ext cx="583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一、口腔保健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預防齵齒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避免服用會傷害牙齒正常生 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長發育的藥物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遊戲中學刷牙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4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塗氟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/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氟錠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5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溝隙封閉劑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616572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5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84720" y="6093000"/>
            <a:ext cx="2916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277~P.278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1:19:25Z</dcterms:created>
  <dc:creator>SuperXP</dc:creator>
  <dc:description/>
  <dc:language>en-US</dc:language>
  <cp:lastModifiedBy>SuperXP</cp:lastModifiedBy>
  <dcterms:modified xsi:type="dcterms:W3CDTF">2007-05-16T00:56:13Z</dcterms:modified>
  <cp:revision>645</cp:revision>
  <dc:subject/>
  <dc:title>投影片 1</dc:title>
</cp:coreProperties>
</file>