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08DD-DD5B-4759-AFD7-9174C2BC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EC35-0F68-4F83-A06D-94F00A1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02B4-F918-4C21-A6DB-1B26C54D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97D2-DF43-4DEF-AF27-C151955C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10AB-970F-4D3B-A681-578DB473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E089-BBB0-41EE-918D-07278C00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9A3-CEE2-4925-BCF8-6F2D325D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338-4E71-4384-AACC-073CE22E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17CF-9974-452B-9587-D9E715A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FFB-99D4-48DD-893B-26444A2C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8031-10B6-4480-8D75-A51071D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A384-74C4-4E8B-9998-1AAD39DF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5C4-B564-48EA-AFC9-4FD9D70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13A1-D77D-4032-852D-A420451D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E282-0A34-4C04-A6CB-E18406E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24F1-A163-48E2-9584-51CFE1E3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FF7A-C578-4D96-B561-22E9BF59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3C61-68DD-4303-ACA7-085256F9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465A-1A96-4C56-ADEE-BC5C96E5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C0A2-8D06-44E5-ABF8-A4C6763B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6635-50E8-4AB3-B22E-CE1DCED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896F-9F83-4419-A663-FB96C6A8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FDDE-814A-4366-B3FE-99D4943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6A85-76F0-4EC7-9186-152C64E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0AD4-2098-416B-AF57-A6FC671CD07E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F9EC-92FA-40A8-9CE1-B143505E9400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560" y="206028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"/>
              </a:rPr>
              <a:t>第八章</a:t>
            </a:r>
            <a:r>
              <a:rPr b="0" lang="zh-TW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r>
              <a:rPr b="0" lang="zh-TW" sz="4800" spc="-1" strike="noStrike">
                <a:solidFill>
                  <a:srgbClr val="ffff00"/>
                </a:solidFill>
                <a:latin typeface="Arial"/>
              </a:rPr>
              <a:t>嬰幼兒的預防保健與健康檢查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楓糖漿尿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體內「支鏈甲型酮酸去氫酶」的功能發生障礙，而造成「纈胺酸、白胺酸、異白胺酸」堆積在體內產生毒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急性期治療：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改善急性酸中毒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週期性洗腎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腹膜透析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脫水、提供足夠熱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長期營養治療：需終生飲食控制。以不含「纈胺酸、白胺酸、異白胺酸」之特殊配方奶粉做飲食治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中鏈脂肪酸去氫酶缺乏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為「脂肪肝」代謝異常之疾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急性期：治療「低血糖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長期治療：在就寢前提供「碳水化合物」點心，並積極治療感染、腸胃炎等突發狀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「肉鹼」缺乏狀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第一型戊二酸血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為「胺基酸」代謝異常的疾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飲食控制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限制「離胺酸」和「色胺酸」的攝取，才不會導致「戊二酸」過量累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核黃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肉鹼的補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急性發作的處理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急性發作可能導致死亡，需適時補充水份、電解質及養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異戊酸血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負責「異戊酸」的「異戊醯輔酶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去氫酶」缺乏，造成大量有毒「異戊酸」堆積在體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須嚴格控制「胺基酸」的攝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本症特殊配方奶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攝取「甘胺酸」、「肉鹼」以降低體內「異戊酸」含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利用洗腎、腹膜透析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甲基丙二酸血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「甲基丙二酸醯輔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變位酶」代謝異常，導致體內「甲基丙二酸、丙酸」等有機酸蓄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對維生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無反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嚴重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對維生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反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輕微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急性期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長期營養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汁滯流症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道閉鎖的篩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汁滯流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肝內型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以「新生兒肝炎」最常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肝外型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以「膽道閉鎖」最常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道閉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膽道阻塞不通，故膽汁鬱積肝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手術時機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應盡可能在出生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天內被發現，並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天內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愈早愈好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完成手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汁滯流症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道閉鎖的篩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嬰兒大便顏色市識別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大便顏色是早期診斷「膽汁滯流症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膽道閉鎖」的重要線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嬰兒大便顏色市識別卡共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種編號的大便顏色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~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號為不正常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~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號為正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眼睛發育和聽力的篩檢與保健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眼睛發育的問題與保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視覺發育和「黃斑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中央小凹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黃斑部」內有「中央小凹」約在出生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月內發育，此時嬰兒才開始能清晰視物，否則只有物體晃動模糊輪廓。清晰物體影像經「視神經」傳入腦部「枕葉視覺中樞」；在學習階段，各種不同的線條圖形會被儲存起來，以備日後按圖索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黃斑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中央小凹」對視覺很重要，其保健方法包括：食用綠色、金黃色、紅色、紫色等深色蔬果；避免直視陽光、避免菸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眼睛發育和聽力的篩檢與保健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斜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斜視是長期眼位不正，「眼球向內偏斜」是「內斜視」，俗稱鬥雞眼； 「眼球向外偏斜」是「外斜視」，俗稱脫窗。還有上斜視、下斜視等不同症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內斜視」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戴矯正眼鏡、遮蓋療法、眼視軸矯正訓練、眼肌手術。 「外斜視」以手術效果較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防止看「過於靠近的東西」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發燒、出疹、斷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斜視家族史的小孩                     時，觀查雙眼協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兒童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~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應帶至眼科接受檢查    功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眼睛發育和聽力的篩檢與保健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弱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定義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原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單眼或雙眼的視力，無法用光學鏡片矯正至正常標準，眼球組織本身無結構上的異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檢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會造成視力不良、缺乏完整立體感，無法從事特別精細的工作或職業，需靠視力檢查、亂點立體圖、父母細心調查才有辦法檢查出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~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前治療效果較好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後才要治療已來不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40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健保服務的目的和項目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健保服務的目的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及早發現「先天性異常」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儘早發現「先天性異常」及提供轉介諮詢，掌握黃金時機進行矯正，除可減輕疾病殘障，甚而恢復正常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預防「後天性疾病」發生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預防方法如下：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餵食指導：預防缺鐵性貧血、過敏性疾病等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預防接種：預防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型肝炎、肺結核、聽力障礙等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口腔保健：預防奶瓶性齲齒等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兒童安全座椅：預防乘車事故傷害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健保服務的項目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請見課本第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230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頁表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8-1</a:t>
            </a:r>
            <a:r>
              <a:rPr b="0" lang="zh-TW" sz="27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眼睛發育和聽力的篩檢與保健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聽力篩檢與保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保護聽力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接受預防接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事故傷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避免傷害聽神經的藥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避免高噪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中耳炎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眼睛發育和聽力的篩檢與保健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82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聽力障礙高危險群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家族病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母親懷孕期用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母親懷孕期症狀及疾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嬰兒病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嬰兒頭頸部先天異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新生兒聽力篩檢流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出生滿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6~48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小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耳聲傳射篩檢或聽性腦幹反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出生滿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配合預防接種進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耳聲傳射篩檢或聽性腦幹反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眼睛發育和聽力的篩檢與保健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耳聲傳射篩檢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OAE) 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聽性腦幹反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耳聲傳射篩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需新生兒安靜狀況下才能進行，先在一耳外耳道放置「高感度麥克風」，然後給予刺激音，再偵測是否有從內耳「耳蝸」之「外毛細胞」向外傳送的微弱聲音；結果得知後，再重複上述動作於另一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聽性腦幹反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需新生兒睡覺後才能進行，先由「耳機」給予一連串的聲音刺激，誘發「內耳至腦幹聽覺系統」產生電位反應，再用貼在額頭上的電極，記錄電位反應，並判讀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40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消化道保健和心臟篩檢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消化道保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奶瓶性龋齒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奶瓶性蛀牙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睡覺時唾液減少，避免餵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慎選較不易引起蛀牙的零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正確潔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定期拜訪牙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過敏的飲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 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後再嚐試「高過敏食物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以較少引起過敏的食物為優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40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消化道保健和心臟篩檢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心臟篩檢 ─ 心雜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95%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新生兒是「功能性心雜音」，是良性的，但也可能是「先天性心臟病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常見檢查工具有以下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種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X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光攝影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顯示心臟形狀、大小及肺部血管的狀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心臟超音波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檢查心臟結構、血流方向及速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心電圖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記錄心臟電流活動，顯示跳動頻率，心房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心室肥大程度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肌肉關節和腹部泌尿生殖器官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的發育問題與處置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肌肉關節的發育問題與處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斜頸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頸部最大肌肉「胸鎖乳突肌」發生纖維化，使肌肉本身長度縮短所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物理治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手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肌肉關節和腹部泌尿生殖器官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的發育問題與處置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820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發展性髖關節發育不良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先天性髖關節脫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診斷名稱的由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為減少診斷困擾及醫療糾紛，目前小兒骨科醫師已將舊稱用「發展性髖關節發育不良」新名稱取而代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發生率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台灣有千分之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左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篩檢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雙膝合攏，兩腿膝蓋不等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兩條大腿內側的皮膚皺摺不對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換尿布，兩大腿向外張開的範圍不對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左臀和右臀不一樣大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後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愈早治療愈好，才會愈簡單，需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軟吊帶」或「石膏固定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肌肉關節和腹部泌尿生殖器官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的發育問題與處置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4000" y="1789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腹部泌尿生殖器官」的發育問題與處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腹股溝疝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腹股溝位於左右側腹部和大腿交接處，又稱鼠蹊部。腹股溝疝氣俗稱脫腸、墜腸。無論男女皆會出現這個毛病。建議應儘快手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陰囊水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男孩的陰囊裡，睪丸周圍包圍著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像水袋的囊腫。水腫狀況依積水而定，可小如睪丸，大如木瓜般。可暫時觀察到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左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肌肉關節和腹部泌尿生殖器官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的發育問題與處置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隱睪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單側或雙側睪丸未下降至陰囊內，因此觸摸陰囊時摸不到睪丸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睪丸在溫水中較易下降，可在洗溫水澡時檢查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。可觀察至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後，進行睪丸固定手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包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包皮出口太小而無法露出龜頭。不一定需要手術，建議國小高年級學生或青春期後動手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肌肉關節和腹部泌尿生殖器官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的發育問題與處置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尿道下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「尿道開口」不在龜頭頂端，而是在「陰莖的腹側面」，也就是靠近陰囊、睪丸的那一面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大即可接受手術，最好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前進行手術，勿拖延至上幼稚園以後，以免影響兒童心理，造成「性格混淆」、「手術閹割焦慮」等心理問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新生兒篩檢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新生兒先天代謝異常篩檢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衛生署認定之新生兒篩檢」和「新生兒篩檢先趨計畫」之比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接生院所的醫護人員會為新生兒做「腳跟採血」，所採集的血液檢體目前可篩檢的先天代謝異常疾病項目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9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日後，行政院衛生署增訂政府認定之「新生兒篩檢」是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項，另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多項疾病也可經由新生兒篩檢檢驗出來，但因未列入政府認定之項目，目前以「先趨計劃」進行，兩者比較詳見課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3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3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8-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事故傷害和預防接種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事故傷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居家事故傷害的預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避免小、尖、長、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加強軟、窄、高、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燒燙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乘車事故傷害的預防─兒童安全座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 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下或體重未達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公斤之嬰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 1~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且體重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~18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公斤之幼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事故傷害和預防接種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接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活性疫苗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非活性疫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活性疫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口服小兒麻痺疫苗、麻疹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腮腺炎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德國麻疹混合疫苗、麻疹疫苗、德國麻疹疫苗、卡介苗、水痘疫苗、黃熱病疫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非活性疫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沙克疫苗、白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日咳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破傷風混合疫苗、日本腦炎疫苗、流行性感冒疫苗、流行性感冒疫苗、肺炎雙球菌疫苗、腦膜炎雙球菌疫苗、狂犬病疫苗、霍亂疫苗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型肝炎疫苗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型肝炎疫苗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Hib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疫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事故傷害和預防接種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混合疫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疫苗種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沙克疫苗、白喉疫苗、破傷風疫苗、「非細胞性」百日咳疫苗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型肝炎疫苗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Hib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疫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接種時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劑「六合一疫苗」如下所列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第一劑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出生滿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第二劑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出生滿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第三劑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出生滿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第四劑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出生滿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事故傷害和預防接種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問題一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研發「混合疫苗」，必須克服那些技術問 題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問題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混合疫苗」的抗原數量會比較多嗎？寶寶的免疫系統能承受嗎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問題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混合疫苗」一次混合這麼多種疫苗一起施打，副作用會更多嗎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問題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混合疫苗」之抗體效力，與各個疫苗分開施打的抗體效力一樣嗎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58~259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說明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身體發育和發展診察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體發育曲線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由頭圍、體重、平躺身長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高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項指標，來觀察生長發育狀況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前，因幼兒站立不穩，最好躺下來測量平躺身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體發育曲線圖的記號意義和評估結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橫軸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縱軸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橫軸是月齡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年齡，縱軸是公斤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公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正常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頭圍、體重、平躺身長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高等落點介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~9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身體發育和發展診察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體發育曲線圖的記號意義和評估結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異常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頭圍、體重、平躺身長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高等落點，低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或高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97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遲緩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若逐漸偏離以往的百分位，例如以往體重都落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7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，現在卻逐漸往下滑落，落到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，則表示兒童的成長變遲緩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不勻稱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任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項指標的差距過大。例如體重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7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，身高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，體型不勻稱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身體發育和發展診察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發展診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項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粗動作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孩子的身體動作、平衡及協調能力。例如會翻身、坐、爬、走、跑、上下樓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細動作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孩子視覺和手部運動之間的協調能力。例如抓東西、塗鴉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語言溝通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指孩子與人相處時自我表達的能力，包括語言及身體動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邊處理及社會性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身邊處理指孩子自行處理日常生活的能力；社會性指孩子在家庭、社會中與人相處的技巧及適應能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節   身體發育和發展診察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內簡易兒童發展篩檢評估量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本量表適用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~2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的嬰幼兒，但不包括「早產兒」及「體重不足」等高危險群嬰幼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追蹤年齡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分為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、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大階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計分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每個年齡層，皆有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題題目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每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分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，滿分為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結果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在每一年齡層，若有任何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題以上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含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為不通過，請帶小朋友至小兒專科醫生處接受進一步檢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62~26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自我評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衛生署認定之新生兒篩檢」和「新生兒篩檢先趨計畫」有何異同處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31~23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蠶豆症」患童，其日常生活需注意那些事項？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避免發生溶血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34~23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嬰兒大便顏色識別卡」篩檢那些疾病？其編號顏色代表什麼意義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38~239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自我評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眼睛「黃斑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中央小凹」和人的視覺機能有何關係？如何保健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「斜視」有那些原則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0~24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有那些保護聽力的方法？篩檢新生兒聽力的流程是何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3~24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如何預防「奶瓶性齲齒」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6~247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868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新生兒篩檢的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1" lang="zh-TW" sz="2800" spc="-1" strike="noStrike">
                <a:solidFill>
                  <a:srgbClr val="ffff00"/>
                </a:solidFill>
                <a:latin typeface="Arial"/>
              </a:rPr>
              <a:t>項疾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苯酮尿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苯酮尿症」是因體內代謝「苯丙胺酸」成「酪胺酸」的路徑發生缺陷，導致「苯丙胺酸」大量推積體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食物型患者：避免吃含「苯丙胺酸」的食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藥物型患者：除限制飲食外，須補充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H</a:t>
            </a:r>
            <a:r>
              <a:rPr b="0" lang="zh-TW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輔酶及一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神經傳導物質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自我評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家長幫可能有過敏體質的寶寶添加副食品時，要注意什麼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7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家長為寶寶換尿布時，應如何觀察孩子雙腿、臀部，以進行「發展性髖關節發育不良」的篩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49~25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腹部泌尿生殖器官」的發育問題有那些？通常建議患童何時接受手術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51~25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自我評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居家環境安全要「避免小、尖、長、滑」和「加強軟、窄、高、乾」，是指什麼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51~25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以下兒童乘坐汽車時，應如何安排其座椅？要注意什麼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5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「六合一疫苗」是由那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種疫苗混合而成？在寶寶多大時可接種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57~259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Arial"/>
              </a:rPr>
              <a:t>自我評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在「身體發育曲線圖」中，「百分位」是指什麼？低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或高於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97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百分位，又是指什麼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60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大的小雄，家長應如何為其進行「發展診療」？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篩檢影片網頁請上「物理治療數位博物館」觀看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詳見課本第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61~265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高胱胺酸尿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體內缺乏「胱硫醚乙型合成酶」，無法將「高胱胺酸」及「甲硫胺酸」轉為「胱胺酸」，導致「高胱胺酸」及「甲硫胺酸」大量推積體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維生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反應型：給予大量維生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，終生使用可預 防症狀發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維生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zh-TW" sz="28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無反應型：主要靠飲食控制，再經「低甲硫胺酸之特殊奶粉」補充，以維持正常生理功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半乳糖血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起因人體中缺乏將「半乳糖」轉變為「葡萄糖」的酶，故使體內積存大量「半乳糖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利用飲食控制法，不餵食含有乳糖、半乳糖的食物，可用「豆奶」、「大豆蛋白配方奶粉」替代餵食嬰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先天性甲狀腺低能症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呆小症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「甲狀腺素」不足，影響新生兒的生長及智能等發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補充適量「甲狀腺素」，治療效果與「開始治療時  間有密切關係。出生後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內開始治療，約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80%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嬰兒有正常智能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個月後才治療，則很難有正常智能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~6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才治療，除發生智能治療外，亦難有正常身材，而顯得身材矮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蠶豆症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葡萄糖六磷酸鹽去氫酶缺乏症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缺乏「葡萄糖六磷酸鹽去氫酶」，使紅血球容易受某些特定物質破壞而發生溶血，如蠶豆，程度嚴重即發生「急性溶血性貧血」，故稱蠶豆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預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本症是「預防重於治療」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不隨便服藥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避免吃蠶豆及蠶豆製品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衣櫥與廁所不放置樟腦丸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不使用龍膽紫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紫藥水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；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若發現患孩有黃疸、臉色蒼白、貧血或茶色尿現象時，應儘速帶住醫院診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節</a:t>
            </a:r>
            <a:r>
              <a:rPr b="0" lang="zh-TW" sz="36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新生兒篩檢和膽汁滯流症 </a:t>
            </a: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/ </a:t>
            </a:r>
            <a:br>
              <a:rPr sz="3600"/>
            </a:br>
            <a:r>
              <a:rPr b="0" lang="zh-TW" sz="3600" spc="-1" strike="noStrike">
                <a:solidFill>
                  <a:srgbClr val="ffff00"/>
                </a:solidFill>
                <a:latin typeface="Arial"/>
              </a:rPr>
              <a:t>膽道閉鎖篩檢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先天性腎上腺增生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病因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症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因缺乏「羥化酵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CYP21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」引起「腎上腺」增生肥大、男性荷爾蒙過度分泌，造成「男性化」與「鹽份流失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治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女嬰外生殖器官男性化表徵，程度嚴重者需以整型手術時間最好在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歲之前，以避免因性別混淆造成人格發展異常。視病情變化，需按時服用「皮質醇」或「留鹽激素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酫固酮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」，並定期返回門診接受複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07:46:12Z</dcterms:created>
  <dc:creator>Jeremy</dc:creator>
  <dc:description/>
  <dc:language>en-US</dc:language>
  <cp:lastModifiedBy>Jeremy</cp:lastModifiedBy>
  <dcterms:modified xsi:type="dcterms:W3CDTF">2007-05-15T05:06:18Z</dcterms:modified>
  <cp:revision>36</cp:revision>
  <dc:subject/>
  <dc:title>第八章  嬰幼兒的預防保健與健康檢查</dc:title>
</cp:coreProperties>
</file>