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629-113C-406A-94C2-5DE3733E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861-E47E-4A48-A01B-9F3B2ABF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B73-45AD-494C-B61C-3464BDD0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0A9-BC58-4A25-9096-B65EBB78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BA4B-CBF2-4AB7-B422-9BA0E6AD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529D-7EF2-4D20-A0D5-9A6DDCCA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FACC-86FA-4EB2-ACFF-D292DA65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6EF3-8931-49F7-993B-ADA5A923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80BD-23F7-48C1-86D4-1EB7BF94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7D28-9FED-4A52-BA96-4DCBFC0E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0335-1B1E-4C69-96A5-EE3EC1D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71B-69EE-47C6-9D30-944D6E4C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CF85-D16A-4E11-BE58-4EF25D7A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B489-ED3A-49BD-8901-AE0D29E9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260C-1FC5-407D-8E87-D3710F51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7A1B-0246-4F80-B213-E842012D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FCF0-42F5-4B99-906B-AC7F6069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120-28C4-47FE-A2DA-47709292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A7A-8E28-4D09-956F-16C529E7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2F6-887C-4D29-B3C9-188BC1FE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6AE-D6C2-4645-B329-A3AA87AE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D58-1B3F-4F13-B256-EC43C05B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723-6DA4-4330-BF15-81BE97D1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50F-249F-40A0-9B52-A61611FE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534B-6233-48E3-825B-05AF2CDC8B4E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3B3B-DF7F-423F-A861-47CED21390A3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6633"/>
                </a:solidFill>
                <a:latin typeface="Garamond"/>
              </a:rPr>
              <a:t>第 </a:t>
            </a:r>
            <a:r>
              <a:rPr b="1" lang="zh-TW" sz="5000" spc="-1" strike="noStrike">
                <a:solidFill>
                  <a:srgbClr val="006633"/>
                </a:solidFill>
                <a:latin typeface="Garamond"/>
              </a:rPr>
              <a:t>1 1 </a:t>
            </a:r>
            <a:r>
              <a:rPr b="1" lang="zh-TW" sz="5000" spc="-1" strike="noStrike">
                <a:solidFill>
                  <a:srgbClr val="006633"/>
                </a:solidFill>
                <a:latin typeface="Garamond"/>
              </a:rPr>
              <a:t>章</a:t>
            </a:r>
            <a:br>
              <a:rPr sz="5000"/>
            </a:br>
            <a:r>
              <a:rPr b="1" lang="zh-TW" sz="5000" spc="-1" strike="noStrike">
                <a:solidFill>
                  <a:srgbClr val="006633"/>
                </a:solidFill>
                <a:latin typeface="Garamond"/>
              </a:rPr>
              <a:t>情緒與壓力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本章將先從女性荷爾蒙和情緒變化的關係，探索女人終其一生在月經週期不同階段，會有的多元情緒發展，並從瞭解到能改變和掌控它。學習多元處理情緒與壓力的方式，包括怎樣吃才能解壓、怎樣的運動才有效、身心放鬆冥想的技巧等。最後將從社會觀點認識女人的憂鬱，並從社會觀點和性別角色觀點，提出解決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四、運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「有氧運動」對經前症候群的症狀緩解與預防是非常有幫助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「等長收縮肌力運動」是當肌肉受力於固定的物體或彼此施力時，肌肉會收縮。增強肌力，但對整體健康無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6633"/>
                </a:solidFill>
                <a:latin typeface="Garamond"/>
              </a:rPr>
              <a:t>第</a:t>
            </a:r>
            <a:r>
              <a:rPr b="0" lang="zh-TW" sz="38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0" lang="zh-TW" sz="3800" spc="-1" strike="noStrike">
                <a:solidFill>
                  <a:srgbClr val="006633"/>
                </a:solidFill>
                <a:latin typeface="Garamond"/>
              </a:rPr>
              <a:t>節  女性與憂鬱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0" lang="zh-TW" sz="3000" spc="-1" strike="noStrike">
                <a:solidFill>
                  <a:srgbClr val="006633"/>
                </a:solidFill>
                <a:latin typeface="Garamond"/>
              </a:rPr>
              <a:t>一、重新解讀女人的心情故事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案例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&gt; ~~ P.30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案例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&gt; ~~ P.307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案例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&gt; ~~ P.308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6633"/>
                </a:solidFill>
                <a:latin typeface="Garamond"/>
              </a:rPr>
              <a:t>二、什麼是憂鬱症？</a:t>
            </a:r>
            <a:br>
              <a:rPr sz="3800"/>
            </a:br>
            <a:r>
              <a:rPr b="0" lang="zh-TW" sz="3800" spc="-1" strike="noStrike">
                <a:solidFill>
                  <a:srgbClr val="006633"/>
                </a:solidFill>
                <a:latin typeface="Garamond"/>
              </a:rPr>
              <a:t>        與憂鬱情緒和憂鬱感覺有何關係？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8820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1773360"/>
            <a:ext cx="67532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三、憂鬱疾病的成因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306864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引發憂鬱事件的本質和意義，並指出在發展出憂鬱的過程中，重大事件及生活困難所具有的意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四、女人憂鬱症社會理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嚴重事件的特徵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羞辱和誘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entrap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個案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嚴重威脅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~(P.31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個案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嚴重威脅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~(P.31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個案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被歸類為羞辱的重大事件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~(P.31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五、憂鬱的處理方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181440" y="2421000"/>
            <a:ext cx="93250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自 我 瞭 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社 會 支 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醫 療 協 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THE   E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4619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第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節  壓力與月經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、影響情緒的荷爾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08000" y="2276640"/>
            <a:ext cx="8136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1988640"/>
            <a:ext cx="76233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33"/>
                </a:solidFill>
                <a:latin typeface="Garamond"/>
              </a:rPr>
              <a:t>二、壓力的管理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壓力的主要成因之一是改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正因為壓力是無形的累積，不識壓力又不知解壓，是會遭到壓力日夜蠶食身心而不自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三、冥想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大致可以歸為兩類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專注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如漸進式放鬆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和占滿心緒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如意象引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視覺化和意象引導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漸進式放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四、姿勢與疲勞情緒的關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照鏡子，檢視自己的姿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檢驗曲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放鬆肩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保持水平座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保持良好的睡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運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五、哪些食物可以解壓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低指、少鹽，減輕身體負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補充複合性碳水化合物，鎮靜神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維他命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群與維生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是抗壓力維他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礦物質有助平穩情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含咖啡因飲料適量而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纖維豐富的蔬果有助腸胃蠕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多喝水活絡腦部細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第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節  經前症候群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、經前症候群的類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1. A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型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2. C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型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3. H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型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4. D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型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5. 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粉刺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6. 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經痛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二、記錄症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可參考表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1-2&amp;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1-3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清楚定義你的症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症狀在何時開始，何時結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症狀發生在月經週期哪一段時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吃了什麼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糖、咖啡因、維他命、高精緻食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荷爾蒙藥物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週作幾次運動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什麼運動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睡眠如何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最近有無發生重大事件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或生活困擾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三、經前症候群的飲食原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限制咖啡因的攝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限制鹽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停止甜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補充多糖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戒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少量多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B6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可以緩解經前緊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八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九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十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1:54:11Z</dcterms:created>
  <dc:creator>michelle</dc:creator>
  <dc:description/>
  <dc:language>en-US</dc:language>
  <cp:lastModifiedBy>SuperXP</cp:lastModifiedBy>
  <dcterms:modified xsi:type="dcterms:W3CDTF">2007-01-18T11:35:24Z</dcterms:modified>
  <cp:revision>19</cp:revision>
  <dc:subject/>
  <dc:title>第 1 1 章 情緒與壓力</dc:title>
</cp:coreProperties>
</file>