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7B2-D498-4327-9D0E-84A9D4EC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EE8-03E5-42EC-BE76-8428E871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926-0299-4E2F-BD08-EABE849A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739-8F9A-4B6D-856F-3B6EA57C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2952-BA46-4A3F-985C-A8B175BD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C943-EF54-4986-86EC-12BFD799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F749-00DF-4699-AD33-3D10E9F7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66EC-44DA-4D3F-9031-A46CD40F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D046-77E6-454E-AFA5-D1DA26A7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5A1C-6F0C-419F-9542-F47E6F9D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0666-E986-461A-ADC6-B3CE7FA9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93D-B681-461D-93F3-0198B1B3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997D-8297-4276-86E7-591967FC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0CF7-50FF-4950-9F97-484FA283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3BB1-2744-4489-8066-BC4A582D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8679-CF19-4DEB-9824-E0943A5C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15E5-7D77-4B25-8805-5D44B223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BE5-AD51-4932-ADBD-00D2665C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7AE-669B-4C36-9379-6C30C17C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532-E8FC-44F6-B953-5733D1B7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1A2-1D7D-479C-807C-A80573DB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FEC-E174-4203-A17C-FF376902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57E-3CEB-4665-B866-2989B237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548-425C-45B8-B101-C694AEAD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7D95-A713-4D50-9A87-B5C367340B9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3976-FC42-4CA0-A2B6-5BC7F3036A7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第九章 性健康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、口服避孕藥的使用原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使用避孕藥期間子宮出血、月經不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避孕藥中之黃體激素使子宮內膜增生較薄且較早萎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子宮內膜剝離時出血較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連續服藥時間較長者，子宮內膜會不剝落而無月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有些經血過多、過密而無其他病變者，服用避孕藥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達到避孕、調整經期與減少經血量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、事後緊急避孕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性交後七十二小時內服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成份是高濃度動情激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成功率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旦已著床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即受精五天後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就完全無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副作用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噁心感與腸胃不適，可與食物一起服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適合當作常規的避孕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、人工流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經規則術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真空吸引術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性交後七十二小時內、月經過期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~1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天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用塑膠軟管以真空吸引方式吸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約需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~3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需麻醉亦可忍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有合併症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子宮頸損傷、劇烈痙攣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出血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、感染、吸刮不乾淨、不孕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子宮刮除術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D&amp;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經過期兩週以上，但在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週以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用金屬管子伸入子宮內部吸出，或在刮除子宮內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需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0.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小時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~1.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小時，需要麻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能有合併症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子宮穿孔、子宮頸裂傷、出血、感染、不完全流產、不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、人工流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）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RU4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懷孕七週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子宮內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高劑量荷爾蒙刺激子宮內收縮，不需麻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能有合併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RU48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原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人工合成的類固醇，主要作用是阻斷黃體脂酮的接受器，使黃體退化而造成流產，前列腺素則是用於刺激子宮收縮，以排出妊娠組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服用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RU486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在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6~48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小時候會小出血，部會排出胚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再隔兩天服用前列腺素，增加子宮收縮並排出胚胎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、性騷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性別騷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帶有性意涵、性別歧視或偏見的言論，過度強調女性的性徵或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性吸引力，以侮辱、貶抑、或敵視女性的言詞或態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性挑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一切不受歡迎、不合宜或帶有攻擊性的口頭或肢體上的吃豆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行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性賄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以同意性服務作為交換利益的手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性要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以威脅或霸王硬上弓的手段強迫性行為或性服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性攻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強暴以及任何造成肢體傷害的暴力動作或異常行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330033"/>
                </a:solidFill>
                <a:latin typeface="標楷體"/>
                <a:ea typeface="標楷體"/>
              </a:rPr>
              <a:t>第二節 性別觀點的人工流產服務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、知情選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資訊諮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避孕知識成長，生育率下降，但其人工流產率卻有升高的趨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、支持系統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、諮商輔導的內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是否有充分的諮詢與諮商管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諮詢與諮商的內容是否充分與是否為女性所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諮詢者或諮商者是否有充分性別主流化的概念，而非以強權觀點介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、相關疾病的處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因性行為造成的性病、生殖道感染、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女性生理結構不是外顯，因此生殖道感染的機率也比男性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330033"/>
                </a:solidFill>
                <a:latin typeface="標楷體"/>
                <a:ea typeface="標楷體"/>
              </a:rPr>
              <a:t>第二節 性別觀點的人工流產服務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、相關疾病的處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孕症的原因有很多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、人工流產婦女的醫療照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墮胎前的照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墮胎方式之選擇，懷孕期間的長短為非常重要的取決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墮胎的方法，也須明白告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懷孕早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吸取方式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—適用最後一次月經過後，用手動或電動吸引器吸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醫藥方式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適用最後一次月經過後９個星期內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擴張或刮除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—應在無法進行吸取法或藥物方式時才可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最後一次月經過後，已懷孕超過１２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使用吸取法與鉗子的擴張與排出墮胎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服用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RU486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與前列腺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330033"/>
                </a:solidFill>
                <a:latin typeface="標楷體"/>
                <a:ea typeface="標楷體"/>
              </a:rPr>
              <a:t>第二節 性別觀點的人工流產服務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、人工流產婦女的醫療照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後續的追蹤與服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婦女應該要得到口頭或書面的指示，教導她們在離開醫療機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後要如何照顧她們自己，會有多少流血量的發生，及可能發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　　的併發症，如何取得救援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降低人工流產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加強宣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提供可靠方便的避孕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增強女性的權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三節 更年期的性生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、更年期後仍有性生活或自慰的婦女比較沒有陰道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化的現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更年期後仍維持性活動，可以維持陰道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卵巢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分泌雄性激素的主要來源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在老年期還是作用旺盛的器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、夫妻間引起情慾的方式不只是靠勃起和插入，相互的撫摸，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吻等都是表達關懷的一種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、中年夫妻的性生活隨著年紀增長，男性最常見的問題就是不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勃起，女性則是陰道疼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四節 泌尿道與陰道感染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、泌尿道感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泌尿系統的感染通稱為尿路感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致病菌大多是細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以大腸桿菌最常見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逆行性感染—從尿道感染開始往上蔓延到膀胱，甚至再經由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尿管到腎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女性感染的機率比男性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男性尿道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約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5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公分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比起女性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3~4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公分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長，尿道開口距離肛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較遠，較不易感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治療方式是用抗生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、如何預防泌尿道感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正確如廁習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多喝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生活型態的調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四節 泌尿道與陰道感染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、從分泌物看陰道感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分泌物從哪裡來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輸卵管和子宮頸都會有分泌物，陰道黏膜剝離的上皮細胞和外陰部的分泌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陰道中的乳酸桿菌對抗外界細菌產生的”陰道自淨作用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生理性白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排卵期的接近，黏液的分泌量會逐漸增加，目的是為了讓精蟲進入，促成受孕，排卵過後，黏液分泌會逐漸減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四、陰道感染的類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念珠菌感染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滴蟲感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梅毒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淋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非淋菌性尿道炎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六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下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七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尖圭濕疣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菜花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 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八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陰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九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含血性白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、避孕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計算安全期的自然法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_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阻隔精蟲進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子宮內避孕器—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台灣目前已婚婦女中使用率最高的避孕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永久避孕法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結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荷爾蒙避孕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四節 泌尿道與陰道感染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五、陰道感染的預防之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注意經期衛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正確如廁習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外陰部清潔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維持陰道的酸性環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生活型態的調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六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避免外陰部皮膚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七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定期子宮頸抹片檢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、避孕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計算安全期的自然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利用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基礎體溫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子宮頸黏液法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來判斷排卵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排卵期前後四天避免行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失敗率高達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阻隔精蟲進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保險套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子宮隔膜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子宮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保險套最大的好處是完全不會對婦女身體造成影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保險套配合殺精劑使用，失敗率可降至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%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、避孕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子宮內避孕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目前台灣地區已婚婦女使用率最高的避孕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副作用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白帶增加、子宮發炎的機會增加、經期延長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經血量增加、經痛及骨盆腔發炎的機會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新一代的子宮內避孕器較穩定，減少上述之副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永久避孕法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結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手術簡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失敗率為千分之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若想要再生育需大費周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、避孕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荷爾蒙避孕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口服避孕藥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諾普籣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皮下植入的黃體素製劑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長效型避孕針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每三個月注射一次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藉由抑制排卵的方式達到避孕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避孕率最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減少骨盆腔感染及子宮外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最容易引起經期紊亂，續發性不排卵等問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最好在醫師指導下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、口服避孕藥的使用原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口服避孕藥的種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主要成分為黃體激素、動情激素，依兩者的組合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例及濃度高低分為三大類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動情激素與黃體激素依固定比例合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段式避孕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分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天型、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天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所謂的月曆型設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模擬人體月經週期不同時期的荷爾蒙濃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分五天、六天、十天階段調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個階段各有其不同之比例及濃度組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天型於來經時停止服用，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天型則為避免服藥時間紊亂，另加七顆藥丸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多半是鐵劑和維其他維他命的配方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，無實際避孕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、口服避孕藥的使用原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口服避孕藥的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只含黃體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各產品有劑量之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劑量大的避孕效果較好，副作用也較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口服避孕藥的副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動情激素高於體內自行分泌的濃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容易發生水分滯留體內的症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引發頭痛、頭暈、噁心、胸脹、腹痛、全身水腫、視神經水腫、血壓升高、子宮內膜增厚、經血量增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、口服避孕藥的使用原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口服避孕藥的副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動情激素過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易導致子宮內膜不穩定，兩次月經期間不定期點狀出血、子宮內膜變薄、月經量變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長期下來可能導致月經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黃體激素過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胃口大開、體重增加、精神不振、冒青春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4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黃體激素過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易發生經期前出現點狀出血的症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330033"/>
                </a:solidFill>
                <a:latin typeface="標楷體"/>
                <a:ea typeface="標楷體"/>
              </a:rPr>
              <a:t>第一節 安全的性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二、口服避孕藥的使用原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哪些人不能使用口服避孕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肝功能不佳、患有肝病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高血壓、高血脂、糖尿病患者、容易形成血栓體質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如何選擇適合自己的避孕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避孕藥是處方藥，必須由醫師診斷評估後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視月經週期是否規律、平時的月經量再決定處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避孕藥吃久了容易不孕嗎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建議原本月經週期規律者，每使用半年應停藥一個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原本月經週期不規律者，每使用三個月停藥一個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這樣使用的時間不宜持續超過五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口服避孕藥兼具調經效果，但對經期不規律者並不適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1:25:26Z</dcterms:created>
  <dc:creator>jenny</dc:creator>
  <dc:description/>
  <dc:language>en-US</dc:language>
  <cp:lastModifiedBy>jenny</cp:lastModifiedBy>
  <dcterms:modified xsi:type="dcterms:W3CDTF">2005-05-12T14:39:52Z</dcterms:modified>
  <cp:revision>9</cp:revision>
  <dc:subject/>
  <dc:title>第九章 性健康</dc:title>
</cp:coreProperties>
</file>