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AA9F-9F1B-442B-BA74-EF222E99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4951-065A-41D4-B749-CC51991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D500-D930-46C6-9ACD-23068FE9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C366-0781-4177-9865-BF03A396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9F4C-CE41-42AC-8946-6D04B02E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475-138E-4680-8524-41BABE04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65B9-3D7C-47BA-A6C5-E00CFA84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4857-EC2A-4C7E-9E20-7455870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A60E-BBF5-422E-9C09-CD77A85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FF0-740B-4324-B0EF-4727491D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F779-AA7D-479C-A874-03A419C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7AED-9B6D-45BA-9984-B582940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DC78-B3EB-4830-8FF8-C10AA0E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4A90-B74D-4344-9573-3263D549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D000-1589-48E8-8BE7-B670030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808-14D8-47C7-B456-CFC35F52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D09A-D773-4613-B95F-1B40D1AB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AE81-22D1-44E3-90C4-2671228D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C12D-01E1-4298-9072-175EEC7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006F-6FC0-4F67-8824-8A6FA6DE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1BB0-7520-41D0-929F-C8F64E4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153B-B124-4572-9DE0-17B5C05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BE7C-DE55-44B7-8F18-B305A4B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35C2-3E75-43D1-8A60-3F5871F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6C2-34E8-4D3C-B0A2-9F96F14C7B72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DED8-D5A5-4248-9EBA-6E37816A73E9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5e5ff"/>
                </a:solidFill>
                <a:latin typeface="細明體"/>
                <a:ea typeface="細明體"/>
              </a:rPr>
              <a:t>第 </a:t>
            </a:r>
            <a:r>
              <a:rPr b="1" lang="zh-TW" sz="5400" spc="-1" strike="noStrike">
                <a:solidFill>
                  <a:srgbClr val="e5e5ff"/>
                </a:solidFill>
                <a:latin typeface="細明體"/>
                <a:ea typeface="細明體"/>
              </a:rPr>
              <a:t>8 </a:t>
            </a:r>
            <a:r>
              <a:rPr b="1" lang="zh-TW" sz="5400" spc="-1" strike="noStrike">
                <a:solidFill>
                  <a:srgbClr val="e5e5ff"/>
                </a:solidFill>
                <a:latin typeface="細明體"/>
                <a:ea typeface="細明體"/>
              </a:rPr>
              <a:t>章</a:t>
            </a:r>
            <a:br>
              <a:rPr sz="5400"/>
            </a:br>
            <a:br>
              <a:rPr sz="5400"/>
            </a:br>
            <a:r>
              <a:rPr b="1" lang="zh-TW" sz="5400" spc="-1" strike="noStrike">
                <a:solidFill>
                  <a:srgbClr val="e5e5ff"/>
                </a:solidFill>
                <a:latin typeface="細明體"/>
                <a:ea typeface="細明體"/>
              </a:rPr>
              <a:t>經痛管理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經痛分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寒凝胞中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經行小腹冷痛、手足冰冷、經量少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臉色不佳、大便拉稀，熱敷則感疼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減輕。治療宜溫經暖宮、養血止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經痛分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3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溼熱下注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常伴有灼熱感，經行時疼痛加劇，經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暗紅質黏有塊、小便短黃。治療宜清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除濕、化瘀止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中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經痛分類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4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氣血虛弱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面色蒼白、說話有氣無力、小腹隱隱作痛、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空墜感、經量少、顏色淡薄屬之。治療宜益氣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補血止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5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肝腎虛損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痛勢綿綿不絕，經量少質稀薄，顏色較暗兼見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腰痠等徵候。治療宜益腎養肝止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經痛病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認為經痛陰氣血運行不暢，造成子宮內經血凝滯導致經痛，可區分虛實兩大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虛症：「先天稟賦不足，沖任未充」、「氣血不足沖任失養」及「肝腎不足，經血虧少而致胞攻失于濡養溫煦」造成經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實症則因受寒和或受溼熱侵犯或「氣滯血瘀」造成經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治療經痛用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治療經痛用藥以活血化瘀為主，在論以氣滯、寒凝、氣虛、熱鬱、腎虛、並配合月經週期治療，不同時期不同體質分別論治，因勢導利，扶正去邪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飲食調理原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中醫認為食物四味五氣之分，四味是寒涼溫熱，五氣是酸苦甘鹹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溫熱食物使身體溫暖興奮，寒涼使身體變冷、鎮靜、消炎。酸味有收斂作用，抑制黏膜表面分泌；苦味有鑑未消炎作用，一般食物以甘味為主；辛味有發散作用，食後多會發汗；鹹味有軟堅作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輪班工作型態與經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輪班工作型態是造成月經異常的一項重要因素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輪班對女性健康的影響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流性病學資料顯示月經異常對女性健康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顯著影響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輪班工作對女性生殖健康危害機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不固定班制與輪三班制除直接對月經有顯著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響，也可能和輪班導致睡眠品質差而影響月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經痛</a:t>
            </a: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DI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ㄧ、保持身體暖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特別是下半身。月經期間注意保暖、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免受寒，以免因抵抗力降低，引起月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失調。身體暖和可加速血液循環、放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肌肉，尤其經攣及充血的骨盆腔，使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經期間排出經血時子宮不會過度收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保暖方法依驅寒、增溫和內外四原則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如：喝熱飲、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熱敷包括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熱水袋法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濕敷法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3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洗熱水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經痛</a:t>
            </a: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DI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二、作些暖和伸展運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平日規律運動能幫助經痛以及相關症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的解除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三、指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以特定手法在身體表面上給予物理性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激，以調節相應的組織器官，達到治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或養身保健目的的一種方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經痛飲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忌食生冷寒涼食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忌食酸澀食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忌食刺激性食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哪些維生素和礦物質可緩解經痛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B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、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維生素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礦物質：鎂和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高纖維食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西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經痛分類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原發性痛經：即骨盆腔內的子宮、卵巢或其他生殖器官結構上沒有任何病變的痛經，通在初經後ㄧ至二年內出現經痛，一般只出現於來經時的第一、二天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續發性痛經：因生殖器官結構病變而引起的經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原發性經痛病因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造成原發性月經疼痛的原因</a:t>
            </a:r>
            <a:r>
              <a:rPr b="0" lang="en-US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前列腺素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月經來前，子宮內膜產生前列腺素，製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過多會增強子宮收縮震幅與頻率，造成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宮收縮的經攣和血流減少，導致子宮組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缺血，引起陣痛般收縮絞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67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2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子宮過度傾屈和子宮頸口狹窄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造成經血不能順暢，刺激子宮收縮，或是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子宮肌肉不能正常協調地收縮，也會發生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3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子宮內膜大塊脫落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子宮內膜整個脫落，造成排出不暢，爲了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出體積較大的整塊內膜，子宮肌肉收縮增強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引起疼痛，內膜排出後疼痛便消失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4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精神心理因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月經週期的賀爾蒙變化對情緒反應是非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敏感的，精神因素也會使疼痛耐受力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降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藥物治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止痛藥是許多人經痛時會使用的，也是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快速緩解經痛的方法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常見的經痛止痛藥有前列腺素抑制劑，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非前列腺素抑制劑兩大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藥物治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前列腺素抑制劑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阿斯匹靈是水楊酸類的止痛藥，具消炎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鎮痛、解痛、抗凝血的作用，對胃較具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激性，有胃的問題、潰瘍、氣喘、控制不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好的高血壓、肝腎疾病、或出血疾病者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要使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3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藥物治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非前列腺素抑制劑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乙醯胺酚是一種鎮熱解痛劑，對中度疼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的緩解效果和阿斯匹靈差不多，但對胃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刺激性且快速有效。止痛效果來自周圍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中樞神經作用，也可阻止前列腺的製造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治療平滑肌絞痛，但不具消炎作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4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飲食原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西醫對經期飲食的建議依據人體在月經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間的營養狀態改變，和女性生殖系統對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殊營養素的需求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中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經痛分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(1)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氣滯血瘀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疼痛如針刺、經量少、色暗有血塊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屬之，血塊排出後則經痛減輕。治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細明體"/>
                <a:ea typeface="細明體"/>
              </a:rPr>
              <a:t>宜理氣活血、化瘀止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細明體"/>
                <a:ea typeface="細明體"/>
              </a:rPr>
              <a:t>ㄧ、經痛認識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1:59:15Z</dcterms:created>
  <dc:creator>OEMuser</dc:creator>
  <dc:description/>
  <dc:language>en-US</dc:language>
  <cp:lastModifiedBy>SuperXP</cp:lastModifiedBy>
  <dcterms:modified xsi:type="dcterms:W3CDTF">2007-01-18T11:27:48Z</dcterms:modified>
  <cp:revision>9</cp:revision>
  <dc:subject/>
  <dc:title>婦女意識的啟蒙</dc:title>
</cp:coreProperties>
</file>