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86C-3257-42A9-918D-67C90587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9D0-3E78-41C3-AAB9-C69D7C73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E72-F43E-4C76-A39C-42872B94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68A-E2F8-4604-A6E6-99DEC617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0E14-F283-4E4C-9613-D344151A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57BA-3C91-412D-9D95-EBB80EFD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8514-95D1-4BF5-A9B7-E7AD18DE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655E-0B8D-42C3-A197-6B4B537A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A9D3-C8BC-4FE7-BBC9-FBB8398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BE60-7CAF-4897-9CBB-ECD28211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D282-3B17-462E-BDCB-F490446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2E7-9F3E-40AC-A89D-C87E837B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45F-8FB9-4982-84DD-2152E30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57C5-4829-4347-B3C5-567F1F8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879E-15F5-42D5-BD9E-40125975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E187-1CCF-40F5-8B9B-3F8FDAE1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52E1-94CD-429D-9B1B-3EB64404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404-9AAF-4063-8500-185EF9EF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55A-A4F0-4896-BFA6-307778B9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B71-C5C9-4211-BAC6-23993EE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3D4-AB5F-4809-A0EC-48C22916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836-C67E-453A-9BA8-3D8A480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D6F-31B6-4D2A-B08D-CC0D7B1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0A5-250C-4C30-8792-F3ED69D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3868-1980-4DCE-BD49-A69C809F70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BA8-84BA-4960-9B0E-131C4C586A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第七章</a:t>
            </a: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經期管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週期如何計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週期是從月經的第一天到下一次月經的前一天。一般月經週期介於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21~35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天，來經的天數為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5~7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天，只要在這各範圍內， 都算正常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週期與來經天數會因人而異，即使是同一人，以會因年齡、飲食習慣、睡眠、壓力等因素，而使每次月經週期長度不一樣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不過當月經來潮時間變得相當長或相當短時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長於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天或短於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天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就得仔細留意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為何月經快來時會長粉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來之前的黃體期，因為黃體激素濃度高，動情激素（亦稱女性荷爾蒙）濃度低，因此腎上腺會分泌較多的男性荷爾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造成皮膚酸鹼值改變，增加了皮膚的油性排泄物，所以容易產生粉刺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更年期的定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一般而言，更年期通常發生在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48~52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歲之間，平均停經年齡是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停經是代表月經終止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更年期是指最後一次月經之前幾年到之後依年的這一段轉變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中醫月經並因論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血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血虛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血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氣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氣虛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血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中西醫觀點看月經異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月經提前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月經延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經血過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經血過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月經先後不定期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控制月經的藥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催經與延經－服用黃體激素或注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口服避孕藥－利用外來的荷爾蒙，模擬卵巢於卵子成熟後所分泌的荷爾蒙，讓腦下垂體與下視丘誤以為體內性荷爾蒙濃度已足夠，但實際並無排卵，藉此達到避孕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週期是在下視丘、腦下垂體、卵巢之內分泌系統節下進行，如果系統失去協調便會發生月經週期異常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下視丘容易受到外界環境，心理或生理方面的影響，都有可能會導致內分泌失調而使月經的週期混亂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所以為了保持規則的月經週期，心理健康與壓力的調適是相當重要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月經週期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經血的成分是什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經血包含了剝落的子宮內膜和剝落時產生的血液混合的東西，以及子宮頸黏液合陰道上皮細胞，帶有一點腥味是正常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因為子宮會分泌一種抗凝血物質和溶凝血物質，使經血不會凝固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如果經血流得比較急，這兩種物質相對不足時，就會形成血塊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月經顏色要怎樣才算正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的顏色如靜脈血，呈暗紅色，亮過多時則色鮮紅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經血的顏色會依精血存留在子宮內的時間長短而不同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正常的月經一般出血量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30~100cc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，如果出血超過八至十天，或是每一到兩小時就得換一次衛生棉，就是經血過多的現象了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動情激素與黃體激素與月經週期的關係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週期分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增生期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排卵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分泌期或稱黃體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經前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月經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排卵期、安全期如何算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排卵日為下次月經來的前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卵子的受孕能力從排卵後算起，最多只有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小時，而精子的壽命約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3~4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危險期從月經的第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11-19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天，非危險期的時間就是安全期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如何從分泌物察知排卵期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在月經後的幾天，子宮頸黏液稀少黏稠， 陰道口乾澀看不到黏液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隨著排卵期的接近，黏液的分泌量會逐漸增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排卵過後，黏液分氣會逐漸減少，混濁有黏性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排卵痛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疼痛的位置在下腹部的某一側，通常會持續數小時，有時還會有少量陰道出血的現象，這些都是由於排卵所造成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因為含有卵子的濾泡在排出前會將卵巢表面稱展開來，因而導致疼痛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分泌物的處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分泌物的處理以適當的清潔為原則，不乾淨時會容易感染陰道炎外陰癌的危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但過於乾淨也會產生問題，因為分泌物養防止細菌侵入陰道內部的重要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如果使用肥皂將陰道內部清洗乾淨的話，會讓好不容易產生的自淨作用減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2:00:26Z</dcterms:created>
  <dc:creator>jamie</dc:creator>
  <dc:description/>
  <dc:language>en-US</dc:language>
  <cp:lastModifiedBy>SuperXP</cp:lastModifiedBy>
  <dcterms:modified xsi:type="dcterms:W3CDTF">2007-01-18T11:26:11Z</dcterms:modified>
  <cp:revision>8</cp:revision>
  <dc:subject/>
  <dc:title>經期管理</dc:title>
</cp:coreProperties>
</file>