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4DE-3EE7-40AE-887F-220D7CFC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7A9-09DF-45D5-A408-B3947E5F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018B-4B7B-464F-A76D-BAAA5AB6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367-DF6F-402B-A2DD-B035E528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9BC9-89C2-45E9-B021-FF426C36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578D-0176-419E-B670-BCBB6F9F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9427-5A36-43B1-AB8D-9EBFCB77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AC81-A269-436B-99B2-ABCCBD6D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132D-F180-44FE-A4E2-1C7D7849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2372-77F8-4732-9767-5477FCE1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EB52-C314-44EB-980E-58065AFA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E82-02FD-4D7B-A590-0D1B5F54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3C8C-1E17-4068-AF1A-1A676A5A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DDC4-0C99-486A-9B8F-4952F75E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ECDE-9738-4287-9A52-BE887FCD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5821-AA88-4476-BF69-1E253183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8125-0FC7-4877-907F-9ECE8EA4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46D-DE9D-4DC1-A9D7-776DAEED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DCC8-35C8-4922-AE71-E86A1B22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24FD-EED2-42C2-A215-17B68EE2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20D-E3F6-4F94-BF45-D4663C3C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F37-4324-4404-9D47-A5541F2D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057-2CEA-4D4C-BB2C-30AE37C1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A637-9466-4EF3-B24E-7D8A72A2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4693-E8F3-4D2F-8C2B-C091EF042880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6B01-AA6A-4CE9-A5BC-4B187256128E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第十章 更年期健康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五、如何預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預存骨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減少鈣質流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六、骨本對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一）注意每日攝鈣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二）增加飲食中的含鈣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三）維生素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D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攝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四）適當的負重運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五）維持適當體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六）預防跌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三節 骨本怎麼顧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七、抑制鈣吸收的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缺少維生素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副腎皮質荷爾蒙異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甲狀腺荷爾蒙異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糖尿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慢性腎臟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六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停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七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老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八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胃酸不足或用制酸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三節 骨本怎麼顧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八、骨質疏鬆症的飲食建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保持均衡飲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少吃過甜的食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採低鹽低脂飲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多喝牛奶及奶製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豆類及豆類加工食品含鈣量亦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六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多選用深綠色蔬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七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燉排骨或大骨湯，加一些檸檬或醋有利鈣的釋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八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含草酸的食物如波菜，會與鈣結合為草鈣酸，而減少鈣的吸收，應避免與含鈣豐富的食物一起飲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三節 骨本怎麼顧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九、負重運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增加骨質密度的運動如下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四肢運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背部伸展運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仰臥平躺，兩腿彎曲，下腹部用力向下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仰臥平躺，兩腿平伸，並抬離地面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公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十、中醫經穴按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搓揉手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按三陰交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按摩血海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按摩小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按摩腰部的腎俞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三節 骨本怎麼顧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一、女性主義觀點的更年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更年期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停經是所有女人皆會經歷的事件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更年期可視為中年過渡到老年的轉捩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雖然更年期常被視為步入老年的象徵，不表示女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社會角色將受限制，可能是女性走向成熟和潛能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揮的大好機會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更年期可視為中年過渡到老年的轉捩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二、應如何面對更年期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長久以來，醫學界視更年期為一種疾病、症候群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激素缺乏的現象，更年期被大量負面的語言所形塑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更年期是人生必經的時刻，如何調適，如何由各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轉折走出個人的生活，是需要彼此學習、提醒，並將社會環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的挫敗轉化成支持，使的生命週期的退縮化為統整與挑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一節 新中年主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一、更年期的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更年期與停經的意思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停經代表月經終止，最後一次月經週期至少十二個月以上，多半是醫界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更年期是指最後一次月經之前幾年到之後一年的這一段轉變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婦女在心智及身體方面開始步入中、老年的一段期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大約有兩年至五年的期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二節 正向面對更年期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二、更年期保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適當的飲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中年的運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中年養身之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社會餐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更年期性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六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婦女健康紀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二節 正向面對更年期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三、停經期不適狀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異於平常月經來時的出血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荷爾蒙變化和排卵不規則可能引起大量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預防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1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減低情緒困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2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戒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3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飲酒要適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4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減少咖啡因用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5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固定運動與良好飲食習慣、氣功養生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子宮纖維肌瘤可能引起大量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子宮內膜過度增生或子宮內膜癌可能引起大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子宮頸癌可能引起大量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二節 正向面對更年期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三、停經期不適狀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熱潮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指的是更年期婦女會突然間感到很熱，臉部、上半身、或全身都會變的很熱且發紅，並伴隨流汗情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皮膚的溫度會突然上升攝氏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3~4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通常在更年期的頭二年，發生的較為頻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產生的原因：體內動情激素突然減少而產生的血管收縮不規則，所導致的現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身體脂肪較多的婦女，因熱潮紅產生的問題較少，因為脂肪組織會產生較多的動情激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很瘦或動過摘除卵巢手術的婦女因熱潮紅產生的問題較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生活中應避免影響動情激素分泌量的因素，例如抽菸、咖啡、飲酒過量、大量吸食大麻或其他藥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二節 正向面對更年期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三、停經期不適狀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陰道乾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因動情激素分泌量減少，陰道壁因而變的較薄、較乾燥，子宮頸也不再分泌黏液，陰道口也會變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頻尿、遺尿、尿失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骨質疏鬆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四、男性也有更年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男性在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44~55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歲之間，會發生一些荷爾蒙、生理、化學的改變，這種改變會影響男性生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男女不同之處在於女性停經後生理上女性荷爾蒙的分泌幾乎停止，男性仍維持其精子活動的狀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男性在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40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歲開始逐漸老化，到了五、六十歲，精少體衰，生殖能力逐漸喪失，生理、心理都會有一些衰退，就如同女性的更年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二節 正向面對更年期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一、了解你的骨質情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骨質疏鬆症就是骨頭的密度下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當骨質減少到臨界值時，一不小心往往就會引起骨折或無以挽救的併發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目前可能可以廣泛使用的檢測方法就是透過對血液和尿液的檢驗，以檢測出造成骨骼溶解的物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二、骨質疏鬆症原發性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包括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婦女停經性骨質疏鬆症、年齡老化骨質疏鬆症、先天性骨質疏鬆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三節 骨本怎麼顧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三、誰是高危險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老人發生比率相當高，女性約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9%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男性約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停經婦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老化，特別是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6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歲以上的老年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菸、酒、咖啡、茶攝取過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缺乏運動，一週少於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次，每次少於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分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鈣質攝取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四、常見症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腰酸背痛、疼痛、骨折、脊椎或關節變形、身高變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矮及駝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三節 骨本怎麼顧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1:25:26Z</dcterms:created>
  <dc:creator>jenny</dc:creator>
  <dc:description/>
  <dc:language>en-US</dc:language>
  <cp:lastModifiedBy>jenny</cp:lastModifiedBy>
  <dcterms:modified xsi:type="dcterms:W3CDTF">2005-05-12T15:53:27Z</dcterms:modified>
  <cp:revision>15</cp:revision>
  <dc:subject/>
  <dc:title>第九章 性健康</dc:title>
</cp:coreProperties>
</file>