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9042-1869-46B7-961E-B995C0C5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DA4C-4B75-44A5-BA28-F192E8DC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357B-1271-486C-9F0F-5BA5E95B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D8AC-50AE-4487-89FB-E2E089CB4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1E83-DB47-4CBA-A614-ED61E5022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ADB1-EE2E-4ADC-8AD8-9AC6B94D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CB26-91FD-4AED-8DBE-EB46F563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2347-A756-4115-9B67-ABC43C8A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18BB-DCD0-4414-A690-BD8CF47B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9A1C-424F-4D34-8490-D6B89396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3794-1CD9-4F02-ACAD-32E1E470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4F69-8C30-4A63-B67E-87777601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8C8F-58E1-444D-A973-8EDB03E3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344E-16A0-4841-AB6D-E78F0494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AD1D-30CA-4744-9B3B-50E17F64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2A67-CAC5-4C74-81F7-D3640897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1FEC-E6CB-4E6A-BA03-D7996C2C8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B564-9FFA-4077-BD79-622F2D63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151A-1470-42CD-AFD2-B7517E6C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3CC8-C0CB-4483-9597-92A9B207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42E6-B5CF-4C3B-B843-ADE60804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FEA3-54D1-4166-8A52-8B8690C5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EF91-6C15-4927-9B04-893FE919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E2C5-46CA-4413-BB14-C662BB6A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0A66-4467-4EAF-8EF2-D28C695DB3C7}" type="slidenum">
              <a:rPr b="0" lang="zh-TW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77C1-EC20-41FC-A2DD-801A229F843C}" type="slidenum">
              <a:rPr b="0" lang="zh-TW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25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b9efee"/>
                </a:solidFill>
                <a:latin typeface="Garamond"/>
              </a:rPr>
              <a:t>第   六   章</a:t>
            </a:r>
            <a:br>
              <a:rPr sz="6000"/>
            </a:br>
            <a:br>
              <a:rPr sz="6000"/>
            </a:br>
            <a:r>
              <a:rPr b="1" lang="zh-TW" sz="6000" spc="-1" strike="noStrike">
                <a:solidFill>
                  <a:srgbClr val="b9efee"/>
                </a:solidFill>
                <a:latin typeface="Garamond"/>
              </a:rPr>
              <a:t>婦女意識的實踐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2005/4/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b9efee"/>
                </a:solidFill>
                <a:latin typeface="Garamond"/>
              </a:rPr>
              <a:t>第</a:t>
            </a:r>
            <a:r>
              <a:rPr b="1" lang="zh-TW" sz="4400" spc="-1" strike="noStrike">
                <a:solidFill>
                  <a:srgbClr val="b9efee"/>
                </a:solidFill>
                <a:latin typeface="Garamond"/>
              </a:rPr>
              <a:t>3</a:t>
            </a:r>
            <a:r>
              <a:rPr b="1" lang="zh-TW" sz="4400" spc="-1" strike="noStrike">
                <a:solidFill>
                  <a:srgbClr val="b9efee"/>
                </a:solidFill>
                <a:latin typeface="Garamond"/>
              </a:rPr>
              <a:t>節 建立婦女健康支持網路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640" y="2276280"/>
            <a:ext cx="7488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Garamond"/>
              </a:rPr>
              <a:t>一、婦女健康自助團體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Garamond"/>
              </a:rPr>
              <a:t>二、充權在婦女健康領域的應用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b9efee"/>
                </a:solidFill>
                <a:latin typeface="Garamond"/>
              </a:rPr>
              <a:t>第</a:t>
            </a:r>
            <a:r>
              <a:rPr b="1" lang="zh-TW" sz="4400" spc="-1" strike="noStrike">
                <a:solidFill>
                  <a:srgbClr val="b9efee"/>
                </a:solidFill>
                <a:latin typeface="Garamond"/>
              </a:rPr>
              <a:t>4</a:t>
            </a:r>
            <a:r>
              <a:rPr b="1" lang="zh-TW" sz="4400" spc="-1" strike="noStrike">
                <a:solidFill>
                  <a:srgbClr val="b9efee"/>
                </a:solidFill>
                <a:latin typeface="Garamond"/>
              </a:rPr>
              <a:t>節 女人主導的醫病攻堅守則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82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Garamond"/>
              </a:rPr>
              <a:t>一、醫療處境的弱勢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Garamond"/>
              </a:rPr>
              <a:t>二、以女人為主體的醫療照護設計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Garamond"/>
              </a:rPr>
              <a:t>三、女人主導的醫病關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Garamond"/>
              </a:rPr>
              <a:t>四、從醫病溝通中反敗為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zh-TW" sz="3600" spc="-1" strike="noStrike">
                <a:solidFill>
                  <a:srgbClr val="ffffff"/>
                </a:solidFill>
                <a:latin typeface="Garamond"/>
              </a:rPr>
              <a:t>---</a:t>
            </a:r>
            <a:r>
              <a:rPr b="1" lang="zh-TW" sz="3600" spc="-1" strike="noStrike">
                <a:solidFill>
                  <a:srgbClr val="ffffff"/>
                </a:solidFill>
                <a:latin typeface="Garamond"/>
              </a:rPr>
              <a:t>與醫師平等對話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Garamond"/>
              </a:rPr>
              <a:t>五、找好醫師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zh-TW" sz="3600" spc="-1" strike="noStrike">
                <a:solidFill>
                  <a:srgbClr val="ffffff"/>
                </a:solidFill>
                <a:latin typeface="Garamond"/>
              </a:rPr>
              <a:t>---</a:t>
            </a:r>
            <a:r>
              <a:rPr b="1" lang="zh-TW" sz="3600" spc="-1" strike="noStrike">
                <a:solidFill>
                  <a:srgbClr val="ffffff"/>
                </a:solidFill>
                <a:latin typeface="Garamond"/>
              </a:rPr>
              <a:t>好醫師名單、找人陪你去看病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181440" y="476280"/>
            <a:ext cx="93250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b9efee"/>
                </a:solidFill>
                <a:latin typeface="Garamond"/>
              </a:rPr>
              <a:t>第</a:t>
            </a:r>
            <a:r>
              <a:rPr b="1" lang="zh-TW" sz="4000" spc="-1" strike="noStrike">
                <a:solidFill>
                  <a:srgbClr val="b9efee"/>
                </a:solidFill>
                <a:latin typeface="Garamond"/>
              </a:rPr>
              <a:t>5</a:t>
            </a:r>
            <a:r>
              <a:rPr b="1" lang="zh-TW" sz="4000" spc="-1" strike="noStrike">
                <a:solidFill>
                  <a:srgbClr val="b9efee"/>
                </a:solidFill>
                <a:latin typeface="Garamond"/>
              </a:rPr>
              <a:t>節 聰明的資訊閱聽人—以更年期為例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99640" y="1773000"/>
            <a:ext cx="74883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Garamond"/>
              </a:rPr>
              <a:t>一、荷蒙補充療法的媒體訊息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Garamond"/>
              </a:rPr>
              <a:t>二、女性荷爾蒙的迷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Garamond"/>
              </a:rPr>
              <a:t>三、更年期健康管理的綜合建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55280" y="691920"/>
            <a:ext cx="748836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在全球的婦女健康運動潮流中，共同的推動目標皆在增加婦女對自身健康的掌控、決策、參與的權力，即「充權婦女」。所謂「充權婦女」，它包括個人層面的健康意識覺醒和團體層面的婦女力量的集結，是一個連續的過程：對婦女的受歧視處做計劃、決策、組織的能力；參與和獲取更多決策權力包括家庭以至社區、社會；共同付諸行動實際改善現況之不平等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b9efee"/>
                </a:solidFill>
                <a:latin typeface="Garamond"/>
              </a:rPr>
              <a:t>第</a:t>
            </a:r>
            <a:r>
              <a:rPr b="1" lang="zh-TW" sz="4000" spc="-1" strike="noStrike">
                <a:solidFill>
                  <a:srgbClr val="b9efee"/>
                </a:solidFill>
                <a:latin typeface="Garamond"/>
              </a:rPr>
              <a:t>1</a:t>
            </a:r>
            <a:r>
              <a:rPr b="1" lang="zh-TW" sz="4000" spc="-1" strike="noStrike">
                <a:solidFill>
                  <a:srgbClr val="b9efee"/>
                </a:solidFill>
                <a:latin typeface="Garamond"/>
              </a:rPr>
              <a:t>節 充權與健康促進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71640" y="2060640"/>
            <a:ext cx="68421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Garamond"/>
              </a:rPr>
              <a:t>一、充權與健康促進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一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充權對健康的影響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二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健康促進運動與充權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26560" y="907920"/>
            <a:ext cx="7704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Garamond"/>
              </a:rPr>
              <a:t>二、充權概念的多重層面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充權依其發生的層級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個體／人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／組織／社區／社會／政治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與過程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結果面向，會有不同的分析焦點，但又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同時是交互運用與重疊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889308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Garamond"/>
              </a:rPr>
              <a:t>三、健康促進充權模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Garamond"/>
              </a:rPr>
              <a:t>Kar</a:t>
            </a:r>
            <a:r>
              <a:rPr b="1" lang="zh-TW" sz="4000" spc="-1" strike="noStrike">
                <a:solidFill>
                  <a:srgbClr val="ffffff"/>
                </a:solidFill>
                <a:latin typeface="Garamond"/>
              </a:rPr>
              <a:t>等人</a:t>
            </a:r>
            <a:r>
              <a:rPr b="1" lang="zh-TW" sz="4000" spc="-1" strike="noStrike">
                <a:solidFill>
                  <a:srgbClr val="ffffff"/>
                </a:solidFill>
                <a:latin typeface="Garamond"/>
              </a:rPr>
              <a:t>(1999)</a:t>
            </a:r>
            <a:r>
              <a:rPr b="1" lang="zh-TW" sz="4000" spc="-1" strike="noStrike">
                <a:solidFill>
                  <a:srgbClr val="ffffff"/>
                </a:solidFill>
                <a:latin typeface="Garamond"/>
              </a:rPr>
              <a:t>以後設分析方法，分析四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Garamond"/>
              </a:rPr>
              <a:t>十個婦女健康促進充權計畫，</a:t>
            </a:r>
            <a:r>
              <a:rPr b="1" lang="zh-TW" sz="4000" spc="-1" strike="noStrike">
                <a:solidFill>
                  <a:srgbClr val="ffffff"/>
                </a:solidFill>
                <a:latin typeface="Garamond"/>
              </a:rPr>
              <a:t>Kar</a:t>
            </a:r>
            <a:r>
              <a:rPr b="1" lang="zh-TW" sz="4000" spc="-1" strike="noStrike">
                <a:solidFill>
                  <a:srgbClr val="ffffff"/>
                </a:solidFill>
                <a:latin typeface="Garamond"/>
              </a:rPr>
              <a:t>等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Garamond"/>
              </a:rPr>
              <a:t>所整合的健康促進充權四步驟模式：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Garamond"/>
              </a:rPr>
              <a:t>一</a:t>
            </a:r>
            <a:r>
              <a:rPr b="1" lang="zh-TW" sz="40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Garamond"/>
              </a:rPr>
              <a:t>鼓勵與創新改革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Garamond"/>
              </a:rPr>
              <a:t>二</a:t>
            </a:r>
            <a:r>
              <a:rPr b="1" lang="zh-TW" sz="40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Garamond"/>
              </a:rPr>
              <a:t>開始集體行動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Garamond"/>
              </a:rPr>
              <a:t>三</a:t>
            </a:r>
            <a:r>
              <a:rPr b="1" lang="zh-TW" sz="40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Garamond"/>
              </a:rPr>
              <a:t>有組織的運動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zh-TW" sz="4000" spc="-1" strike="noStrike">
                <a:solidFill>
                  <a:srgbClr val="ffffff"/>
                </a:solidFill>
                <a:latin typeface="Garamond"/>
              </a:rPr>
              <a:t>四</a:t>
            </a:r>
            <a:r>
              <a:rPr b="1" lang="zh-TW" sz="40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zh-TW" sz="4000" spc="-1" strike="noStrike">
                <a:solidFill>
                  <a:srgbClr val="ffffff"/>
                </a:solidFill>
                <a:latin typeface="Garamond"/>
              </a:rPr>
              <a:t>制度化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加拿大社區健康顧問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Labonte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認為健康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進並不是一種社會運動，而是一種對社會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動的新知識挑戰的專家與官僚回應，同時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含充權與未充權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(disempowerment)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的觀點。他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認為充權是一種權力的給予與取得的辨證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係，從健康促進實踐的立場提出專業人員的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充權模式，連結個人服務、小團體支持、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區組織、結盟與倡導，以及政治行動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b9efee"/>
                </a:solidFill>
                <a:latin typeface="Garamond"/>
              </a:rPr>
              <a:t>第</a:t>
            </a:r>
            <a:r>
              <a:rPr b="1" lang="zh-TW" sz="4000" spc="-1" strike="noStrike">
                <a:solidFill>
                  <a:srgbClr val="b9efee"/>
                </a:solidFill>
                <a:latin typeface="Garamond"/>
              </a:rPr>
              <a:t>2</a:t>
            </a:r>
            <a:r>
              <a:rPr b="1" lang="zh-TW" sz="4000" spc="-1" strike="noStrike">
                <a:solidFill>
                  <a:srgbClr val="b9efee"/>
                </a:solidFill>
                <a:latin typeface="Garamond"/>
              </a:rPr>
              <a:t>節 充權與婦女健康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280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Garamond"/>
              </a:rPr>
              <a:t>一、婦女充權運動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婦女充權的三大條件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參與的民主、不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或缺的自我反省、與集體行動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(Bisnath&amp;Elson,2000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Evans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研究美國婦女運動，提出五個「反對者集體認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同」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(insurgent collective identity)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形成的先決調件：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(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社會空間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(social space),(2)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角色模範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(role models),(3)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意識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感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(an ideology),(4)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威脅感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(threat),(5)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溝通或友誼的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路。總之，充權運動可能導致的負面效應必須要被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預期與考量到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28036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Garamond"/>
              </a:rPr>
              <a:t>二、婦女充權的架構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Batliwala(1997)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提出婦女充權的理論架構，充權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過程由外在過程與內在過程兩個層次相嵌而成。外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在過程，只改變外在環境，以增加婦女對資源的控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制。內在過程為改變意識型態，增加婦女的自信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獲得力量、動機以維持充權的成果。在婦女充權的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架構中，意識覺醒是重要的過程與結果，而女性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識覺醒的轉換是在啟蒙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(enlightenment)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、充權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(empowerment)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與解放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(emancipatoin)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三個互為動態的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過程中產生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(Henderson,1995)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Garamond"/>
              </a:rPr>
              <a:t>三、婦女健康充權策略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一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使能服務與援助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(enabling services and assistanc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二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權利保護與促進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(rights protection and promotio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三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大眾教育與參與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(public education and participation)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四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媒體支持與倡導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(media use, support and advocacy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五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組織化的夥伴關係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社團協會、合作與聯合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六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充權訓練與領導發展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7T07:31:48Z</dcterms:created>
  <dc:creator>joyce</dc:creator>
  <dc:description/>
  <dc:language>en-US</dc:language>
  <cp:lastModifiedBy>SuperXP</cp:lastModifiedBy>
  <dcterms:modified xsi:type="dcterms:W3CDTF">2007-01-18T11:22:10Z</dcterms:modified>
  <cp:revision>22</cp:revision>
  <dc:subject/>
  <dc:title>第   五   章 婦女意識的覺醒</dc:title>
</cp:coreProperties>
</file>