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2C7-70A6-4D8B-8FB7-A2D7C7DB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C4A-4F5B-48EB-A640-88C5C47C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414-1762-4B89-82C5-95F61575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74D-E6B1-41B9-9E40-E8B10061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BE5F-2854-4B44-B66B-AE2CFD7C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A9B7-C5E0-4BD7-9CF3-E842F062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3E5-8518-4AE5-943B-728F6FB7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AE15-9251-4ADF-9AAD-B991CCE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3FDC-52BA-417D-B3D7-FE686B0F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34E2-3AF9-4E54-AA7A-F54B158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DB7-85F4-4FEA-AD80-A96658C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5A5-DB4B-474D-97D0-A5CDD6A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B3F-D568-41FE-B63A-4D96F5B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ED6E-6F2E-428B-AEF8-1EB2931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68E-9815-4862-BFA5-F129686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DD29-76FE-4464-927F-667EDFB0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F0B1-B542-48FC-84F4-866C7DB5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CCE-4858-46F3-A6BA-0455358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328-5EF2-4858-9F62-385C49F4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D5D-2FAE-4059-9052-D071B4BB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540-A98F-4DEB-9FD4-B23F6812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13A-1E59-46B5-9454-8E6CF52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FDA-FBDA-4EB0-82BE-DC861BA0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1A6-DBAF-48C0-A7FA-50CBD4C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542B-B5DB-4137-8EC9-4DB9F4141657}" type="slidenum">
              <a:rPr b="0" lang="zh-TW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D3E-6332-4ADD-A7A6-B01787912422}" type="slidenum">
              <a:rPr b="0" lang="zh-TW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b9efee"/>
                </a:solidFill>
                <a:latin typeface="Garamond"/>
              </a:rPr>
              <a:t>第   五   章</a:t>
            </a:r>
            <a:br>
              <a:rPr sz="6000"/>
            </a:br>
            <a:br>
              <a:rPr sz="6000"/>
            </a:br>
            <a:r>
              <a:rPr b="1" lang="zh-TW" sz="6000" spc="-1" strike="noStrike">
                <a:solidFill>
                  <a:srgbClr val="b9efee"/>
                </a:solidFill>
                <a:latin typeface="Garamond"/>
              </a:rPr>
              <a:t>婦女意識的覺醒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2005/4/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b9efee"/>
                </a:solidFill>
                <a:uFillTx/>
                <a:latin typeface="Garamond"/>
              </a:rPr>
              <a:t>保  護  身  體  器  官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小心浮濫的切除手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洞識子宮切除手術前的醫師告知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由身體自主論子宮切除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影響子宮切除的因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適當性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vs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必要性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vs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有選擇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建立監測系統與介入計畫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保險控制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醫院控制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立法規範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子宮切除教育落實「醫師告知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子宮切除媒體介入計畫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b9efee"/>
                </a:solidFill>
                <a:uFillTx/>
                <a:latin typeface="Garamond"/>
              </a:rPr>
              <a:t>婦 女 健 康 運 動</a:t>
            </a:r>
            <a:r>
              <a:rPr b="1" lang="zh-TW" sz="4400" spc="-1" strike="noStrike" u="sng">
                <a:solidFill>
                  <a:srgbClr val="b9efee"/>
                </a:solidFill>
                <a:uFillTx/>
                <a:latin typeface="Garamond"/>
              </a:rPr>
              <a:t>-Ⅰ</a:t>
            </a: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婦女健康運動應教育婦女：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如何選擇一個好的婦產科醫師、如何面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婦產科醫師、看病前要準備什麼、看病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時要注意什麼。甚至教導婦女在醫師提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作子宮切除治療時，該如何問問題 、醫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該告訴你什麼、你有哪些選擇性的處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b9efee"/>
                </a:solidFill>
                <a:uFillTx/>
                <a:latin typeface="Garamond"/>
              </a:rPr>
              <a:t>婦 女 健 康 運 動 </a:t>
            </a:r>
            <a:r>
              <a:rPr b="1" lang="zh-TW" sz="4800" spc="-1" strike="noStrike" u="sng">
                <a:solidFill>
                  <a:srgbClr val="b9efee"/>
                </a:solidFill>
                <a:uFillTx/>
                <a:latin typeface="Garamond"/>
              </a:rPr>
              <a:t>- Ⅱ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婦女本身應該開始重視自我健康與對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病的認識。瞭解且接受自己內在身體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明瞭生理結構與自然正常的變化為何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才能減少性別岐視與自貶。而具有充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且正確的醫療知識，自己的身體自己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定，才能減少不必要之手術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e9eeba"/>
                </a:solidFill>
                <a:uFillTx/>
                <a:latin typeface="Garamond"/>
              </a:rPr>
              <a:t>醫 療 化 的 定 義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醫療社會學學者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Zola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於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1996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年提出：意指日常生活經驗被視為健康異常或疾病的過程，某些行為或情境生活事件被賦予醫療意義，也就是用健康和疾病的名詞定義它討論，認為只有醫學方能解決問題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e5eeba"/>
                </a:solidFill>
                <a:uFillTx/>
                <a:latin typeface="Garamond"/>
              </a:rPr>
              <a:t>醫源病</a:t>
            </a:r>
            <a:r>
              <a:rPr b="1" lang="zh-TW" sz="3600" spc="-1" strike="noStrike" u="sng">
                <a:solidFill>
                  <a:srgbClr val="e5eeba"/>
                </a:solidFill>
                <a:uFillTx/>
                <a:latin typeface="Garamond"/>
              </a:rPr>
              <a:t>(iatrogenic disease)</a:t>
            </a:r>
            <a:r>
              <a:rPr b="1" lang="zh-TW" sz="4800" spc="-1" strike="noStrike" u="sng">
                <a:solidFill>
                  <a:srgbClr val="e5eeba"/>
                </a:solidFill>
                <a:uFillTx/>
                <a:latin typeface="Garamond"/>
              </a:rPr>
              <a:t>的定義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llich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於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1976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年特別提出「醫源病」的論述，認為當代醫學非僅不能造福人類，還造成各種醫源病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------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因醫源而致的疾病，醫療體系成為一種致病原。包括臨床醫源病、社會醫源病與文化醫源病。他認為醫療體制的官僚化、科技過度氾濫、專業壟斷、決策權過於中集中等問題，使人過度依賴醫學，反而在健康、資源分配與生活上受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e9eeba"/>
                </a:solidFill>
                <a:uFillTx/>
                <a:latin typeface="Garamond"/>
              </a:rPr>
              <a:t>醫 療 化 的 架 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外在條件：醫師專業、醫療工業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經濟與科技競爭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媒體配合與中介群體支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內在條件：民眾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信念、需求與動機、合作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環境條件：醫療組織贊同與配合、醫療法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互動條件：醫師與婦女的互動、研究者與臨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者的互動、政府與醫療界的互動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醫界與醫療產業界的互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637000"/>
            <a:ext cx="6191280" cy="30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3716280"/>
            <a:ext cx="1081080" cy="1225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266364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e44073"/>
                </a:solidFill>
                <a:uFillTx/>
                <a:latin typeface="Garamond"/>
              </a:rPr>
              <a:t>醫療化的架構圖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716280"/>
            <a:ext cx="1728720" cy="1081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制   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     </a:t>
            </a: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藥          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Pharmaceutical             </a:t>
            </a: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醫     生                 民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                                   </a:t>
            </a:r>
            <a:r>
              <a:rPr b="0" lang="zh-TW" sz="3200" spc="-1" strike="noStrike">
                <a:solidFill>
                  <a:srgbClr val="ff9966"/>
                </a:solidFill>
                <a:latin typeface="Garamond"/>
              </a:rPr>
              <a:t>媒  體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ccff66"/>
                </a:solidFill>
                <a:uFillTx/>
                <a:latin typeface="Garamond"/>
              </a:rPr>
              <a:t>醫 療 化 實 例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女性更年期：生活醫療化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女性荷爾蒙促銷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坐月子的醫療化過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精神科：女性憂鬱症的過度醫療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b9efee"/>
                </a:solidFill>
                <a:uFillTx/>
                <a:latin typeface="Garamond"/>
              </a:rPr>
              <a:t>月 經 醫 療 化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◎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Laws (1990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認為經期醫療化的原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醫師對月經的瞭解及對月經異常的定義十分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清楚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醫療化現象背後的社會結構，醫師只是遵從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會規範，而非社會規範的領導者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◎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Mos (1968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經期不適量表，包含八個蓋念：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痛、注意力不集中、行為改變、自主神經系統反應、水份滯留、負面情緒反應、激發性正向情緒反應及控制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b9efee"/>
                </a:solidFill>
                <a:uFillTx/>
                <a:latin typeface="Garamond"/>
              </a:rPr>
              <a:t>經痛原因與治療的不確定與矛盾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醫學對經痛看法不確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醫學對治療經痛的「用心良苦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女人與醫學的看法衝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女人經期不適的醫療模式困境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中醫的雙重解謮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b9efee"/>
                </a:solidFill>
                <a:uFillTx/>
                <a:latin typeface="Garamond"/>
              </a:rPr>
              <a:t>月經意識與身體實踐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掌握月經，對身體採取行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女性經驗的分享學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具性別意識但不性別隔離的經期教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再造促進經期健康的社會環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修正醫療體系之父權思考與性別刻板印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48Z</dcterms:created>
  <dc:creator>joyce</dc:creator>
  <dc:description/>
  <dc:language>en-US</dc:language>
  <cp:lastModifiedBy>SuperXP</cp:lastModifiedBy>
  <dcterms:modified xsi:type="dcterms:W3CDTF">2007-01-18T11:20:46Z</dcterms:modified>
  <cp:revision>22</cp:revision>
  <dc:subject/>
  <dc:title>第   五   章 婦女意識的覺醒</dc:title>
</cp:coreProperties>
</file>